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4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07F-1FD3-42EC-BAF1-068D7CC0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777-F424-412E-B253-B1A5FC31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025-DA13-47B1-BDB4-A4983566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6F9-3C4B-4045-94F9-7024BBD7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651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A11-EE32-4474-8CBB-6CB25E40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444-5BE0-4F9E-8170-5D9650ED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DAC-A1C5-466D-802A-DF87D7AC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525-B75E-45E5-A037-9AA253B0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651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C5E-F6EE-4A8B-92C0-6E728FFF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E1F-CCAB-4591-B59E-FF78181C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872-A23F-4999-940E-B95FCFB0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D11-1230-44DD-B427-653107B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backfade_template"/>
          <p:cNvPicPr/>
          <p:nvPr/>
        </p:nvPicPr>
        <p:blipFill>
          <a:blip r:embed="rId2"/>
          <a:srcRect l="0" t="0" r="0" b="199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5" descr="full_template_dark"/>
          <p:cNvPicPr/>
          <p:nvPr/>
        </p:nvPicPr>
        <p:blipFill>
          <a:blip r:embed="rId3"/>
          <a:srcRect l="0" t="0" r="0" b="81853"/>
          <a:stretch/>
        </p:blipFill>
        <p:spPr>
          <a:xfrm>
            <a:off x="0" y="0"/>
            <a:ext cx="9906120" cy="127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948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948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C82F-9E66-4989-A544-4314763DF2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4" descr="full_template_dark"/>
          <p:cNvPicPr/>
          <p:nvPr/>
        </p:nvPicPr>
        <p:blipFill>
          <a:blip r:embed="rId2"/>
          <a:srcRect l="0" t="0" r="0" b="199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948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948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739800" y="46447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1655280"/>
            <a:ext cx="842004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xed Flashing Lights Viewing T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84080" y="2798640"/>
            <a:ext cx="6934320" cy="8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lcolm Nicholson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ncipal Development Engineer at GLA R&amp;RNAV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43040" y="3648240"/>
            <a:ext cx="693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ALA ENG1 </a:t>
            </a:r>
            <a:endParaRPr b="0" lang="en-US" sz="1200" spc="-1" strike="noStrike">
              <a:solidFill>
                <a:srgbClr val="0948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4891"/>
                </a:solidFill>
                <a:latin typeface="Arial"/>
              </a:rPr>
              <a:t>The use of a fixed light as part of a flashing light character can enhance its conspicuity at short range.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4891"/>
                </a:solidFill>
                <a:latin typeface="Arial"/>
              </a:rPr>
              <a:t>The contrast between the fixed component and the flashing component has to be sufficient enough to distinguish between them.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4891"/>
                </a:solidFill>
                <a:latin typeface="Arial"/>
              </a:rPr>
              <a:t>It is recommended that Authorities wishing to utilise the Fixed and Flashing (FFl) character, the fixed component should be 1% of the peak intensity of the flashing character.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</p:txBody>
      </p:sp>
      <p:pic>
        <p:nvPicPr>
          <p:cNvPr id="124" name="Content Placeholder 4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4120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iewing Trials - General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What’s the point?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Confirmation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A new light in service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Anecdotal evidence (e.g. Yes, it was white and we could see it from 5M)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Validation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A new light in service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Written Report (e.g. Time/Date, Visibility, Observers name)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A new light in service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Designed trial (e.g. Objectives, preparation, measurements, comparison to previous light, number of observers (tested), visibility, sea state,  angle of viewing, recorded results, results analysis, final written report)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iewing Trial - Observers Sh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3200" y="1494000"/>
            <a:ext cx="4322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Categorical Choice YES/NO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Ordinal Choice or Comparison Scale 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Ordinal response options must be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Meaningful: makes sense given the question and purpose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Balanced: two endpoints mean the opposite of each other and the intervals between are about equal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Easy to understand and complete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Easy to distinguish from the question and response directions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43560" y="1498680"/>
          <a:ext cx="5184720" cy="2095560"/>
        </p:xfrm>
        <a:graphic>
          <a:graphicData uri="http://schemas.openxmlformats.org/drawingml/2006/table">
            <a:tbl>
              <a:tblPr/>
              <a:tblGrid>
                <a:gridCol w="793440"/>
                <a:gridCol w="627120"/>
                <a:gridCol w="766800"/>
                <a:gridCol w="399960"/>
                <a:gridCol w="750960"/>
                <a:gridCol w="352440"/>
                <a:gridCol w="682560"/>
                <a:gridCol w="811440"/>
              </a:tblGrid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Observe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94891"/>
                          </a:solidFill>
                          <a:latin typeface="Rage Italic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94891"/>
                          </a:solidFill>
                          <a:latin typeface="Rage Italic"/>
                        </a:rPr>
                        <a:t>Frodo Baggins</a:t>
                      </a:r>
                      <a:endParaRPr b="0" lang="en-US" sz="16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Light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Excellent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Very Good 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Acceptabl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Poo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Very Poo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Unacceptabl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lou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Brightness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Flash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nspcuity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nfidenc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1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514760" y="3735360"/>
          <a:ext cx="5184720" cy="2073240"/>
        </p:xfrm>
        <a:graphic>
          <a:graphicData uri="http://schemas.openxmlformats.org/drawingml/2006/table">
            <a:tbl>
              <a:tblPr/>
              <a:tblGrid>
                <a:gridCol w="793800"/>
                <a:gridCol w="627120"/>
                <a:gridCol w="766800"/>
                <a:gridCol w="399960"/>
                <a:gridCol w="750960"/>
                <a:gridCol w="352440"/>
                <a:gridCol w="682560"/>
                <a:gridCol w="811080"/>
              </a:tblGrid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Observe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94891"/>
                          </a:solidFill>
                          <a:latin typeface="Rage Italic"/>
                        </a:rPr>
                        <a:t>Bilbao Baggins</a:t>
                      </a:r>
                      <a:endParaRPr b="0" lang="en-US" sz="16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Light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Excellent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Very Good 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Acceptabl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Poo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Very Poo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Unacceptabl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lou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Brightness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Flash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nspcuity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nfidenc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10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485640" y="589752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4891"/>
                </a:solidFill>
                <a:latin typeface="Arial"/>
              </a:rPr>
              <a:t>YOU CAN’T COMPARE APPLES AND PEARS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jectives for FFL Trial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2178000"/>
            <a:ext cx="569916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Is a FFL more effective AtoN than a normal flashing light?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What impact does eclipse time has on the effectiveness?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What is the right level of contrast between the fixed part and the flashing part?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271000" y="4532400"/>
            <a:ext cx="966600" cy="98244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8124840" y="5533920"/>
            <a:ext cx="104760" cy="10476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pic>
        <p:nvPicPr>
          <p:cNvPr id="97" name="Picture 6" descr="ship_im"/>
          <p:cNvPicPr/>
          <p:nvPr/>
        </p:nvPicPr>
        <p:blipFill>
          <a:blip r:embed="rId1"/>
          <a:stretch/>
        </p:blipFill>
        <p:spPr>
          <a:xfrm>
            <a:off x="6661080" y="2755800"/>
            <a:ext cx="1974960" cy="1974960"/>
          </a:xfrm>
          <a:prstGeom prst="rect">
            <a:avLst/>
          </a:prstGeom>
          <a:ln w="9360">
            <a:solidFill>
              <a:srgbClr val="0948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Where does the FFL character come from?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Rotating Optics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Loom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Space between lens panels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Fixed Optics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Nigressing current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271000" y="4532400"/>
            <a:ext cx="966600" cy="98244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124840" y="5533920"/>
            <a:ext cx="104760" cy="10476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pic>
        <p:nvPicPr>
          <p:cNvPr id="102" name="Picture 6" descr="lighthouse_img"/>
          <p:cNvPicPr/>
          <p:nvPr/>
        </p:nvPicPr>
        <p:blipFill>
          <a:blip r:embed="rId1"/>
          <a:stretch/>
        </p:blipFill>
        <p:spPr>
          <a:xfrm>
            <a:off x="6673680" y="2768760"/>
            <a:ext cx="1949760" cy="1949400"/>
          </a:xfrm>
          <a:prstGeom prst="rect">
            <a:avLst/>
          </a:prstGeom>
          <a:ln w="9360">
            <a:solidFill>
              <a:srgbClr val="0948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asu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600120" y="1565280"/>
            <a:ext cx="2448000" cy="2247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2"/>
          <a:stretch/>
        </p:blipFill>
        <p:spPr>
          <a:xfrm>
            <a:off x="6313320" y="1565280"/>
            <a:ext cx="2448000" cy="2247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3"/>
          <a:stretch/>
        </p:blipFill>
        <p:spPr>
          <a:xfrm>
            <a:off x="600120" y="3975120"/>
            <a:ext cx="2448000" cy="224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4"/>
          <a:stretch/>
        </p:blipFill>
        <p:spPr>
          <a:xfrm>
            <a:off x="6313320" y="3975120"/>
            <a:ext cx="24480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5"/>
          <a:stretch/>
        </p:blipFill>
        <p:spPr>
          <a:xfrm>
            <a:off x="3454560" y="2046240"/>
            <a:ext cx="244764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6"/>
          <a:stretch/>
        </p:blipFill>
        <p:spPr>
          <a:xfrm>
            <a:off x="3816360" y="3813120"/>
            <a:ext cx="16542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servers and Cond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Rectangle 3" descr=""/>
          <p:cNvPicPr/>
          <p:nvPr/>
        </p:nvPicPr>
        <p:blipFill>
          <a:blip r:embed="rId1"/>
          <a:stretch/>
        </p:blipFill>
        <p:spPr>
          <a:xfrm>
            <a:off x="438120" y="1573200"/>
            <a:ext cx="6316560" cy="4559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8271000" y="4532400"/>
            <a:ext cx="966600" cy="98244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8124840" y="5533920"/>
            <a:ext cx="104760" cy="10476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pic>
        <p:nvPicPr>
          <p:cNvPr id="114" name="Picture 8" descr="lighthouse_img2"/>
          <p:cNvPicPr/>
          <p:nvPr/>
        </p:nvPicPr>
        <p:blipFill>
          <a:blip r:embed="rId2"/>
          <a:stretch/>
        </p:blipFill>
        <p:spPr>
          <a:xfrm>
            <a:off x="6672240" y="2765520"/>
            <a:ext cx="1949400" cy="1949400"/>
          </a:xfrm>
          <a:prstGeom prst="rect">
            <a:avLst/>
          </a:prstGeom>
          <a:ln w="9360">
            <a:solidFill>
              <a:srgbClr val="0948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iewing Path – 0.75M (1.3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25383" t="31814" r="8320" b="12390"/>
          <a:stretch/>
        </p:blipFill>
        <p:spPr>
          <a:xfrm>
            <a:off x="1190520" y="2006640"/>
            <a:ext cx="7426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564080" y="1060560"/>
            <a:ext cx="5424480" cy="3484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0" y="1230480"/>
            <a:ext cx="521964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129280" y="3789360"/>
            <a:ext cx="4776840" cy="306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4"/>
          <a:stretch/>
        </p:blipFill>
        <p:spPr>
          <a:xfrm>
            <a:off x="214200" y="3789360"/>
            <a:ext cx="5005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8:18:05Z</dcterms:created>
  <dc:creator>Booz Allen Hamilton</dc:creator>
  <dc:description/>
  <dc:language>en-US</dc:language>
  <cp:lastModifiedBy>Seamus Doyle</cp:lastModifiedBy>
  <dcterms:modified xsi:type="dcterms:W3CDTF">2014-11-14T10:38:01Z</dcterms:modified>
  <cp:revision>22</cp:revision>
  <dc:subject/>
  <dc:title>Slide 1</dc:title>
</cp:coreProperties>
</file>