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5" name="PlaceHolder 2"/>
          <p:cNvSpPr>
            <a:spLocks noGrp="1"/>
          </p:cNvSpPr>
          <p:nvPr>
            <p:ph type="dt" idx="3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8" name="PlaceHolder 5"/>
          <p:cNvSpPr>
            <a:spLocks noGrp="1"/>
          </p:cNvSpPr>
          <p:nvPr>
            <p:ph type="ftr" idx="3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9" name="PlaceHolder 6"/>
          <p:cNvSpPr>
            <a:spLocks noGrp="1"/>
          </p:cNvSpPr>
          <p:nvPr>
            <p:ph type="sldNum" idx="3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C5CC-33E4-4E22-957C-1134D497C4A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CFAA-F128-4E87-BE9E-5CB6487A51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939960" y="380880"/>
            <a:ext cx="4978080" cy="3733920"/>
          </a:xfrm>
          <a:prstGeom prst="rect">
            <a:avLst/>
          </a:prstGeom>
          <a:ln w="0">
            <a:noFill/>
          </a:ln>
        </p:spPr>
      </p:sp>
      <p:sp>
        <p:nvSpPr>
          <p:cNvPr id="160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0C37-F9C3-4845-ADE1-86AECCE515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PlaceHolder 1"/>
          <p:cNvSpPr>
            <a:spLocks noGrp="1"/>
          </p:cNvSpPr>
          <p:nvPr>
            <p:ph type="sldImg"/>
          </p:nvPr>
        </p:nvSpPr>
        <p:spPr>
          <a:xfrm>
            <a:off x="939960" y="380880"/>
            <a:ext cx="4978080" cy="3733920"/>
          </a:xfrm>
          <a:prstGeom prst="rect">
            <a:avLst/>
          </a:prstGeom>
          <a:ln w="0">
            <a:noFill/>
          </a:ln>
        </p:spPr>
      </p:sp>
      <p:sp>
        <p:nvSpPr>
          <p:cNvPr id="160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FA56-6FF0-445E-A0FD-D60D3DC08B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939960" y="380880"/>
            <a:ext cx="4978080" cy="3733920"/>
          </a:xfrm>
          <a:prstGeom prst="rect">
            <a:avLst/>
          </a:prstGeom>
          <a:ln w="0">
            <a:noFill/>
          </a:ln>
        </p:spPr>
      </p:sp>
      <p:sp>
        <p:nvSpPr>
          <p:cNvPr id="161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3CAB-6512-43F9-9E40-76025C09A8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939960" y="380880"/>
            <a:ext cx="4978080" cy="3733920"/>
          </a:xfrm>
          <a:prstGeom prst="rect">
            <a:avLst/>
          </a:prstGeom>
          <a:ln w="0">
            <a:noFill/>
          </a:ln>
        </p:spPr>
      </p:sp>
      <p:sp>
        <p:nvSpPr>
          <p:cNvPr id="161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42C1D-4888-40CF-8C24-3A0C7D3F74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PlaceHolder 1"/>
          <p:cNvSpPr>
            <a:spLocks noGrp="1"/>
          </p:cNvSpPr>
          <p:nvPr>
            <p:ph type="sldImg"/>
          </p:nvPr>
        </p:nvSpPr>
        <p:spPr>
          <a:xfrm>
            <a:off x="939960" y="380880"/>
            <a:ext cx="4978080" cy="3733920"/>
          </a:xfrm>
          <a:prstGeom prst="rect">
            <a:avLst/>
          </a:prstGeom>
          <a:ln w="0">
            <a:noFill/>
          </a:ln>
        </p:spPr>
      </p:sp>
      <p:sp>
        <p:nvSpPr>
          <p:cNvPr id="158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3B86-8BD2-4916-B505-EAC33A8C1A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939960" y="380880"/>
            <a:ext cx="4978080" cy="3733920"/>
          </a:xfrm>
          <a:prstGeom prst="rect">
            <a:avLst/>
          </a:prstGeom>
          <a:ln w="0">
            <a:noFill/>
          </a:ln>
        </p:spPr>
      </p:sp>
      <p:sp>
        <p:nvSpPr>
          <p:cNvPr id="158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EB08-220F-448F-8F8F-934FA22033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939960" y="380880"/>
            <a:ext cx="4978080" cy="3733920"/>
          </a:xfrm>
          <a:prstGeom prst="rect">
            <a:avLst/>
          </a:prstGeom>
          <a:ln w="0">
            <a:noFill/>
          </a:ln>
        </p:spPr>
      </p:sp>
      <p:sp>
        <p:nvSpPr>
          <p:cNvPr id="158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3C19-D878-40A8-838F-061A1FBD28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939960" y="380880"/>
            <a:ext cx="4978080" cy="3733920"/>
          </a:xfrm>
          <a:prstGeom prst="rect">
            <a:avLst/>
          </a:prstGeom>
          <a:ln w="0">
            <a:noFill/>
          </a:ln>
        </p:spPr>
      </p:sp>
      <p:sp>
        <p:nvSpPr>
          <p:cNvPr id="159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E414F-0863-4507-A59C-A459F6DDF5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939960" y="380880"/>
            <a:ext cx="4978080" cy="3733920"/>
          </a:xfrm>
          <a:prstGeom prst="rect">
            <a:avLst/>
          </a:prstGeom>
          <a:ln w="0">
            <a:noFill/>
          </a:ln>
        </p:spPr>
      </p:sp>
      <p:sp>
        <p:nvSpPr>
          <p:cNvPr id="159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DC7F-F47B-4268-A346-A0E2212944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PlaceHolder 1"/>
          <p:cNvSpPr>
            <a:spLocks noGrp="1"/>
          </p:cNvSpPr>
          <p:nvPr>
            <p:ph type="sldImg"/>
          </p:nvPr>
        </p:nvSpPr>
        <p:spPr>
          <a:xfrm>
            <a:off x="939960" y="380880"/>
            <a:ext cx="4978080" cy="3733920"/>
          </a:xfrm>
          <a:prstGeom prst="rect">
            <a:avLst/>
          </a:prstGeom>
          <a:ln w="0">
            <a:noFill/>
          </a:ln>
        </p:spPr>
      </p:sp>
      <p:sp>
        <p:nvSpPr>
          <p:cNvPr id="159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D73BE-32A9-4690-9C6B-1C43AFB13D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939960" y="380880"/>
            <a:ext cx="4978080" cy="3733920"/>
          </a:xfrm>
          <a:prstGeom prst="rect">
            <a:avLst/>
          </a:prstGeom>
          <a:ln w="0">
            <a:noFill/>
          </a:ln>
        </p:spPr>
      </p:sp>
      <p:sp>
        <p:nvSpPr>
          <p:cNvPr id="160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2482-D5F2-4ACD-9CF2-A8A36E401F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939960" y="380880"/>
            <a:ext cx="4978080" cy="3733920"/>
          </a:xfrm>
          <a:prstGeom prst="rect">
            <a:avLst/>
          </a:prstGeom>
          <a:ln w="0">
            <a:noFill/>
          </a:ln>
        </p:spPr>
      </p:sp>
      <p:sp>
        <p:nvSpPr>
          <p:cNvPr id="160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D7BC130F-3B5E-4629-924F-8542D6F6F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871D27B-33D4-4FB8-BD6E-A20C0FA8A4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4759E3F3-A26F-4AF2-BA9A-F171C92D6C4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F465BE99-62B2-4B1A-9164-A00485D788E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91B6F881-D3B8-4656-A2FD-AB9BE6A3312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F0338938-761B-46BA-ADD5-528698ADCEF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BD604229-DF50-4E07-8F40-6F75DFAFA22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CDE3E2F1-0D15-4F4C-97D0-E5CE36F22B0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5D5D4D52-B8D6-4717-8F6B-D7B84C52947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4DC20024-8FAB-4E89-AB2C-C4AFEA99113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58739ED0-6845-4E46-900F-3A7E341C3E0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CBC28648-3392-4D61-BF2B-C697BF8152D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C5C65AD1-56F3-443D-9609-08EB2099901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E43AFA37-E431-4799-82DD-ED7D398263B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CE61F24C-7424-4DFF-AAF8-C839C8DA1A3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9BD09A1D-ECE5-4EF2-925C-F74FFB3A224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AF02B2F9-E2CC-44AC-9D63-925A7049386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28F000A6-FE3C-46A0-BE4F-8F171336E41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4FA13A11-6092-4F70-8EA6-55E374CEEEA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6923721E-37F3-4321-AB9C-557DE142AC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23EFE3D8-10FD-45AD-A6D8-44911DB3F68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C30178BD-C44F-468A-919A-09122756413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A8E419EE-B11B-4338-9840-9A9F8CDD010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E805390F-E9BC-4A83-AC65-E55F9AF47A1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D9F2F5EE-A783-493C-B29E-812AAAD6DFC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F4227B-30FB-4120-A4D0-EF3F02C60A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D616BC-DB05-4722-8941-ED27EF58AA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1DE1C3-628B-4C7A-BF50-F6AB54DB9D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1B769F-81B5-4E09-985B-F9CBD75580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517874-1F92-49F0-846A-DBB632A91F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12DE2B-3406-454B-8FAB-724A4685B9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A3B3CB-3EC3-4BF2-893E-DB38C4EF79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FC62E7-52C3-47C6-A835-B66CADC265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8E8C60-14E9-491F-9DE7-11E536566F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74C4EE-E558-4209-87FB-5D061C2CC1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D2E1411-3D40-4C50-8BD2-9B5E11B491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536EF8-F46A-4303-843C-CFA5BC5926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AE27FD-AE54-40D2-9DCE-AA33ED1C34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194974-D4D5-4C17-8CC5-2FD9AF7B31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AB1B23-3738-443A-9BB7-32709FA401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3C9495-BDF8-4406-9DF3-A81BCE173C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E32EE6-8B1B-41B0-8F3F-621796B3C1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883949-01B9-4F8A-BCFF-C763079EE0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A9169C-500C-4B78-BEC7-4B6D3FDC78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AF067B-176C-4CE4-A8EF-D3C47AC659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4A5E60-0328-4D06-9934-C7D838479F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B9A544-F809-4BE4-8FFB-DC6186AFBC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44BC20-DEAB-4CE1-A792-0F59C84334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02C35B-283F-4953-A629-C48B0DE6A5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592EDDE-7890-4389-A4CD-5BB77AACB1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D5CD0A16-3ECC-4BAE-A501-9FCC11A0199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80CA7033-D2AA-46AF-80F3-D347ACC8564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1FF21E5-0A9F-485E-952E-BEE0CD3C89F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3EFE5C12-929C-4D09-ACC9-D3A9A9F75B4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BBB247EE-5C01-4E5B-AE69-9D56AD96EDD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11FA635-7EAA-45DB-98AE-112A1EC7B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F09DA6E0-A048-4F34-B64B-BF826E120C7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19C7DEC-97BD-4D8D-A600-0D16D94BD7D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AE2D16D6-F8BA-4682-BC65-20219AA0EA0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AE3844B3-2DCF-4F64-9E26-AC89170540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BFA2E6B5-D260-4FE6-8119-33683A27760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2B70AC4A-A2F6-4F8D-A304-E46BC7DBE50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F47DF848-0047-4C76-8AC3-ED7656A634D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B7C29768-7CA9-403C-B7F7-D6F1210A90D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BE06D4EB-A48C-4ECF-B024-6ACE65F1A51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0AFC9934-05F5-4ADC-9CB2-4B03545EA7A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2E63D2A-B82F-4F31-81C1-B952A1C29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2A33A294-9224-497A-ABD6-A7B077B7E3C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EBAD0A73-5EB0-48C5-B897-C25C9FE103A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4762757E-C7B4-4DEC-827B-7CCED4B565F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AB2EE54F-2DA2-40D7-A59A-C5A303C664E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375E687B-8C73-4813-A5AD-B7D317710CB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F033A6EA-6D31-4255-9023-05E584C461B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0E6B4C08-AEAD-4C08-8BCB-7E45426AD99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3D83EFD9-D758-4871-B89E-9170CDF91E2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F03DCF23-8F94-4205-AD1E-9DF423D36D1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4CDD9FD-2CF7-4093-91B1-3440AC33408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5B50341B-235E-4008-9E26-E93BC5B954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45A02AD-FC6E-4B58-B8DA-1A78C7B54C1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7CF28BF-90E8-486D-B1BF-301B200EA43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071DD29-C39F-46B2-94D0-2971A0CAF4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938E1A8-7F63-4871-A380-E718BBD66F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A98D2B2-7C71-46CC-BA92-CD581430C3A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8BEF6FB-7D19-4917-B2A4-39576DAE745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2D1912A-E282-4B5E-A378-10F1EFE37F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6516053-1117-42EF-A1AB-F9E56DBE3C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6B44A26-AB51-4B48-B628-516CF5F5194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D5D10D8-CFF5-455A-8030-27A3D6EE7CD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4B5CAD9-08AD-4E7C-BFBC-AD189B3802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B5C6D82-41BA-4AB9-AEED-34FD5369EDA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9219899E-AB46-4A3F-8A65-10C4507FE38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114E180B-2FD6-4ADA-AE9C-59A7E9256BF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3FD8E93C-E390-4845-8D76-A83F0CBE3A8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5E264505-4A76-41CB-AC4D-B7924C736D7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679EE13F-EDE1-4B47-B343-CBBF4FA7EB3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4A6D0833-8E88-48E3-97D1-B413BFD2AC2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AA393F02-66DC-405B-9E79-71965FF944A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9C310820-DCB1-4752-844F-AAA20F11B0D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D56A7C0A-DD01-43CD-994B-C6717DEC9E5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BAEBC77-B01C-4B88-9CE6-8A5B8F3F69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D8D8DABD-2152-4CF2-BCB9-9F7060DFF88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DCF23F16-92FC-4C62-B658-EE4A84701CDB}"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3D9B55A1-07EC-499B-8D4D-E88B2EAE96F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72C5A390-60BC-4EE1-8253-4B526674A05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AA047C58-E069-4CCC-B490-755A99F4ABE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E8D7EA14-C0A3-413F-A664-DDD7414E8CC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5E51058C-0D33-44E2-9D54-7877EB53982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0E535C28-78A9-4F05-A094-2A782007A55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9242E272-8E23-48D7-9AE9-D7A994346D3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7ED18863-F00C-41AF-968C-081EA13308F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7722305-5378-4F74-9502-A95B81BFA6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2755EDC1-AF18-4727-8979-43B17C94C8B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056FD36A-26E0-4C3B-AFAB-B309704B263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81560698-14C2-4621-BB46-0F12C53209A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689D6C7F-0597-43A3-BECE-E199881435B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0F298349-6282-4BEC-87C8-5B7700088AA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91336E9B-44A4-47F4-8BC9-6994D4D10CE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818791DA-83B0-4640-B28E-D0D1BAAC5AFE}"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3FDFCFC9-3F31-43F1-A4BC-161B8BB262A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B991FC3E-0A8F-420C-8578-C24D2B86CD0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52FF94D1-0D0D-451F-B057-D88C6608C5A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88E5EAF-FDB6-48B9-927B-ABFC62CD5E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6BF260E8-DFFB-409C-8145-D1B898A8C28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AC5324D7-0F36-4308-BD48-941FDD01490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FB307C12-74E3-49AD-889A-97F1279F374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C2672583-8B45-4F4C-A6C8-F002CBAF118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0DDE08AA-F233-44FE-AD89-0471ABA6C76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E487E810-4960-43DF-907B-643D3972F52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23C920A3-8441-421E-A947-BA9479D1F0B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B6CE859B-C1D1-497F-8466-5D3B8263800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2E5D414D-581A-47FB-A9B8-13AB31C2069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482A6027-3D41-4A75-971B-712EB79C38F6}"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 name="PlaceHolder 2"/>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3" name="PlaceHolder 3"/>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A05BE407-9385-40B2-8B54-EDCE66B76CCD}"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 name="PlaceHolder 5"/>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6" name="Picture 212" descr="WSV_RGB_M"/>
          <p:cNvPicPr/>
          <p:nvPr/>
        </p:nvPicPr>
        <p:blipFill>
          <a:blip r:embed="rId2"/>
          <a:stretch/>
        </p:blipFill>
        <p:spPr>
          <a:xfrm>
            <a:off x="7488360" y="343080"/>
            <a:ext cx="698400" cy="634680"/>
          </a:xfrm>
          <a:prstGeom prst="rect">
            <a:avLst/>
          </a:prstGeom>
          <a:ln w="0">
            <a:noFill/>
          </a:ln>
        </p:spPr>
      </p:pic>
      <p:pic>
        <p:nvPicPr>
          <p:cNvPr id="7" name="Picture 9" descr="WSV_Claim"/>
          <p:cNvPicPr/>
          <p:nvPr/>
        </p:nvPicPr>
        <p:blipFill>
          <a:blip r:embed="rId3"/>
          <a:stretch/>
        </p:blipFill>
        <p:spPr>
          <a:xfrm>
            <a:off x="611280" y="357120"/>
            <a:ext cx="1859040" cy="119160"/>
          </a:xfrm>
          <a:prstGeom prst="rect">
            <a:avLst/>
          </a:prstGeom>
          <a:ln w="0">
            <a:noFill/>
          </a:ln>
        </p:spPr>
      </p:pic>
      <p:grpSp>
        <p:nvGrpSpPr>
          <p:cNvPr id="8" name="*GRIDLINE01*"/>
          <p:cNvGrpSpPr/>
          <p:nvPr/>
        </p:nvGrpSpPr>
        <p:grpSpPr>
          <a:xfrm>
            <a:off x="250920" y="404640"/>
            <a:ext cx="8640720" cy="6262920"/>
            <a:chOff x="250920" y="404640"/>
            <a:chExt cx="8640720" cy="6262920"/>
          </a:xfrm>
        </p:grpSpPr>
        <p:sp>
          <p:nvSpPr>
            <p:cNvPr id="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5" name="Picture 212" descr="WSV_RGB_M"/>
          <p:cNvPicPr/>
          <p:nvPr/>
        </p:nvPicPr>
        <p:blipFill>
          <a:blip r:embed="rId2"/>
          <a:stretch/>
        </p:blipFill>
        <p:spPr>
          <a:xfrm>
            <a:off x="7488360" y="343080"/>
            <a:ext cx="698400" cy="634680"/>
          </a:xfrm>
          <a:prstGeom prst="rect">
            <a:avLst/>
          </a:prstGeom>
          <a:ln w="0">
            <a:noFill/>
          </a:ln>
        </p:spPr>
      </p:pic>
      <p:pic>
        <p:nvPicPr>
          <p:cNvPr id="1106" name="Picture 9" descr="WSV_Claim"/>
          <p:cNvPicPr/>
          <p:nvPr/>
        </p:nvPicPr>
        <p:blipFill>
          <a:blip r:embed="rId3"/>
          <a:stretch/>
        </p:blipFill>
        <p:spPr>
          <a:xfrm>
            <a:off x="611280" y="357120"/>
            <a:ext cx="1859040" cy="119160"/>
          </a:xfrm>
          <a:prstGeom prst="rect">
            <a:avLst/>
          </a:prstGeom>
          <a:ln w="0">
            <a:noFill/>
          </a:ln>
        </p:spPr>
      </p:pic>
      <p:grpSp>
        <p:nvGrpSpPr>
          <p:cNvPr id="1107" name="*GRIDLINE01*"/>
          <p:cNvGrpSpPr/>
          <p:nvPr/>
        </p:nvGrpSpPr>
        <p:grpSpPr>
          <a:xfrm>
            <a:off x="250920" y="404640"/>
            <a:ext cx="8640720" cy="6262920"/>
            <a:chOff x="250920" y="404640"/>
            <a:chExt cx="8640720" cy="6262920"/>
          </a:xfrm>
        </p:grpSpPr>
        <p:sp>
          <p:nvSpPr>
            <p:cNvPr id="1108"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7"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3"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4"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5"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7"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8"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9"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0"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1"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7"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3"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6"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7"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97"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98"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199"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200"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45C68B4D-EDCF-4093-972F-ED5391E5BD4E}"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8" name="Picture 212" descr="WSV_RGB_M"/>
          <p:cNvPicPr/>
          <p:nvPr/>
        </p:nvPicPr>
        <p:blipFill>
          <a:blip r:embed="rId2"/>
          <a:stretch/>
        </p:blipFill>
        <p:spPr>
          <a:xfrm>
            <a:off x="7488360" y="343080"/>
            <a:ext cx="698400" cy="634680"/>
          </a:xfrm>
          <a:prstGeom prst="rect">
            <a:avLst/>
          </a:prstGeom>
          <a:ln w="0">
            <a:noFill/>
          </a:ln>
        </p:spPr>
      </p:pic>
      <p:pic>
        <p:nvPicPr>
          <p:cNvPr id="1239" name="Picture 9" descr="WSV_Claim"/>
          <p:cNvPicPr/>
          <p:nvPr/>
        </p:nvPicPr>
        <p:blipFill>
          <a:blip r:embed="rId3"/>
          <a:stretch/>
        </p:blipFill>
        <p:spPr>
          <a:xfrm>
            <a:off x="611280" y="357120"/>
            <a:ext cx="1859040" cy="119160"/>
          </a:xfrm>
          <a:prstGeom prst="rect">
            <a:avLst/>
          </a:prstGeom>
          <a:ln w="0">
            <a:noFill/>
          </a:ln>
        </p:spPr>
      </p:pic>
      <p:grpSp>
        <p:nvGrpSpPr>
          <p:cNvPr id="1240" name="*GRIDLINE01*"/>
          <p:cNvGrpSpPr/>
          <p:nvPr/>
        </p:nvGrpSpPr>
        <p:grpSpPr>
          <a:xfrm>
            <a:off x="250920" y="404640"/>
            <a:ext cx="8640720" cy="6262920"/>
            <a:chOff x="250920" y="404640"/>
            <a:chExt cx="8640720" cy="6262920"/>
          </a:xfrm>
        </p:grpSpPr>
        <p:sp>
          <p:nvSpPr>
            <p:cNvPr id="1241"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0"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1"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2"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3"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4"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6"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7"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8"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3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3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3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33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33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7EBF17C8-08F1-42A8-B0FD-C63530DE1D1E}"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1" name="Picture 212" descr="WSV_RGB_M"/>
          <p:cNvPicPr/>
          <p:nvPr/>
        </p:nvPicPr>
        <p:blipFill>
          <a:blip r:embed="rId2"/>
          <a:stretch/>
        </p:blipFill>
        <p:spPr>
          <a:xfrm>
            <a:off x="7488360" y="343080"/>
            <a:ext cx="698400" cy="634680"/>
          </a:xfrm>
          <a:prstGeom prst="rect">
            <a:avLst/>
          </a:prstGeom>
          <a:ln w="0">
            <a:noFill/>
          </a:ln>
        </p:spPr>
      </p:pic>
      <p:pic>
        <p:nvPicPr>
          <p:cNvPr id="1372" name="Picture 9" descr="WSV_Claim"/>
          <p:cNvPicPr/>
          <p:nvPr/>
        </p:nvPicPr>
        <p:blipFill>
          <a:blip r:embed="rId3"/>
          <a:stretch/>
        </p:blipFill>
        <p:spPr>
          <a:xfrm>
            <a:off x="611280" y="357120"/>
            <a:ext cx="1859040" cy="119160"/>
          </a:xfrm>
          <a:prstGeom prst="rect">
            <a:avLst/>
          </a:prstGeom>
          <a:ln w="0">
            <a:noFill/>
          </a:ln>
        </p:spPr>
      </p:pic>
      <p:grpSp>
        <p:nvGrpSpPr>
          <p:cNvPr id="1373" name="*GRIDLINE01*"/>
          <p:cNvGrpSpPr/>
          <p:nvPr/>
        </p:nvGrpSpPr>
        <p:grpSpPr>
          <a:xfrm>
            <a:off x="250920" y="404640"/>
            <a:ext cx="8640720" cy="6262920"/>
            <a:chOff x="250920" y="404640"/>
            <a:chExt cx="8640720" cy="6262920"/>
          </a:xfrm>
        </p:grpSpPr>
        <p:sp>
          <p:nvSpPr>
            <p:cNvPr id="1374"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5"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6"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7"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8"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9"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0"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2"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3"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4"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5"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9"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3"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7"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9"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4"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5"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1"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2"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3"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4"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5"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6"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7"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8"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9"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0"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1"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2"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3"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4"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5"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6"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7"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8"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0"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1"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2"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3"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6"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7"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0"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4"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5"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7"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2"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3"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9"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0"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1"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463"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64" name="PlaceHolder 3"/>
          <p:cNvSpPr>
            <a:spLocks noGrp="1"/>
          </p:cNvSpPr>
          <p:nvPr>
            <p:ph type="ftr" idx="3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465" name="PlaceHolder 4"/>
          <p:cNvSpPr>
            <a:spLocks noGrp="1"/>
          </p:cNvSpPr>
          <p:nvPr>
            <p:ph type="dt" idx="3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466" name="PlaceHolder 5"/>
          <p:cNvSpPr>
            <a:spLocks noGrp="1"/>
          </p:cNvSpPr>
          <p:nvPr>
            <p:ph type="sldNum" idx="3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2AFAA96A-6835-414C-83CB-3EEB1962A20B}"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WSV_RGB_M_S"/>
          <p:cNvPicPr/>
          <p:nvPr/>
        </p:nvPicPr>
        <p:blipFill>
          <a:blip r:embed="rId2"/>
          <a:stretch/>
        </p:blipFill>
        <p:spPr>
          <a:xfrm>
            <a:off x="7308720" y="260280"/>
            <a:ext cx="1371600" cy="1305000"/>
          </a:xfrm>
          <a:prstGeom prst="rect">
            <a:avLst/>
          </a:prstGeom>
          <a:ln w="0">
            <a:noFill/>
          </a:ln>
        </p:spPr>
      </p:pic>
      <p:pic>
        <p:nvPicPr>
          <p:cNvPr id="134" name="Picture 16" descr="WSV_Claim"/>
          <p:cNvPicPr/>
          <p:nvPr/>
        </p:nvPicPr>
        <p:blipFill>
          <a:blip r:embed="rId3"/>
          <a:stretch/>
        </p:blipFill>
        <p:spPr>
          <a:xfrm>
            <a:off x="611280" y="357120"/>
            <a:ext cx="1859040" cy="119160"/>
          </a:xfrm>
          <a:prstGeom prst="rect">
            <a:avLst/>
          </a:prstGeom>
          <a:ln w="0">
            <a:noFill/>
          </a:ln>
        </p:spPr>
      </p:pic>
      <p:sp>
        <p:nvSpPr>
          <p:cNvPr id="1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4" name="Picture 212" descr="WSV_RGB_M"/>
          <p:cNvPicPr/>
          <p:nvPr/>
        </p:nvPicPr>
        <p:blipFill>
          <a:blip r:embed="rId2"/>
          <a:stretch/>
        </p:blipFill>
        <p:spPr>
          <a:xfrm>
            <a:off x="7488360" y="343080"/>
            <a:ext cx="698400" cy="634680"/>
          </a:xfrm>
          <a:prstGeom prst="rect">
            <a:avLst/>
          </a:prstGeom>
          <a:ln w="0">
            <a:noFill/>
          </a:ln>
        </p:spPr>
      </p:pic>
      <p:pic>
        <p:nvPicPr>
          <p:cNvPr id="175" name="Picture 9" descr="WSV_Claim"/>
          <p:cNvPicPr/>
          <p:nvPr/>
        </p:nvPicPr>
        <p:blipFill>
          <a:blip r:embed="rId3"/>
          <a:stretch/>
        </p:blipFill>
        <p:spPr>
          <a:xfrm>
            <a:off x="611280" y="357120"/>
            <a:ext cx="1859040" cy="119160"/>
          </a:xfrm>
          <a:prstGeom prst="rect">
            <a:avLst/>
          </a:prstGeom>
          <a:ln w="0">
            <a:noFill/>
          </a:ln>
        </p:spPr>
      </p:pic>
      <p:grpSp>
        <p:nvGrpSpPr>
          <p:cNvPr id="176" name="*GRIDLINE01*"/>
          <p:cNvGrpSpPr/>
          <p:nvPr/>
        </p:nvGrpSpPr>
        <p:grpSpPr>
          <a:xfrm>
            <a:off x="250920" y="404640"/>
            <a:ext cx="8640720" cy="6262920"/>
            <a:chOff x="250920" y="404640"/>
            <a:chExt cx="8640720" cy="6262920"/>
          </a:xfrm>
        </p:grpSpPr>
        <p:sp>
          <p:nvSpPr>
            <p:cNvPr id="177"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6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7"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68"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269"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6BEBB688-0EDD-467A-8B33-F82F895BBAA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Picture 212" descr="WSV_RGB_M"/>
          <p:cNvPicPr/>
          <p:nvPr/>
        </p:nvPicPr>
        <p:blipFill>
          <a:blip r:embed="rId2"/>
          <a:stretch/>
        </p:blipFill>
        <p:spPr>
          <a:xfrm>
            <a:off x="7488360" y="343080"/>
            <a:ext cx="698400" cy="634680"/>
          </a:xfrm>
          <a:prstGeom prst="rect">
            <a:avLst/>
          </a:prstGeom>
          <a:ln w="0">
            <a:noFill/>
          </a:ln>
        </p:spPr>
      </p:pic>
      <p:pic>
        <p:nvPicPr>
          <p:cNvPr id="308" name="Picture 9" descr="WSV_Claim"/>
          <p:cNvPicPr/>
          <p:nvPr/>
        </p:nvPicPr>
        <p:blipFill>
          <a:blip r:embed="rId3"/>
          <a:stretch/>
        </p:blipFill>
        <p:spPr>
          <a:xfrm>
            <a:off x="611280" y="357120"/>
            <a:ext cx="1859040" cy="119160"/>
          </a:xfrm>
          <a:prstGeom prst="rect">
            <a:avLst/>
          </a:prstGeom>
          <a:ln w="0">
            <a:noFill/>
          </a:ln>
        </p:spPr>
      </p:pic>
      <p:grpSp>
        <p:nvGrpSpPr>
          <p:cNvPr id="309" name="*GRIDLINE01*"/>
          <p:cNvGrpSpPr/>
          <p:nvPr/>
        </p:nvGrpSpPr>
        <p:grpSpPr>
          <a:xfrm>
            <a:off x="250920" y="404640"/>
            <a:ext cx="8640720" cy="6262920"/>
            <a:chOff x="250920" y="404640"/>
            <a:chExt cx="8640720" cy="6262920"/>
          </a:xfrm>
        </p:grpSpPr>
        <p:sp>
          <p:nvSpPr>
            <p:cNvPr id="310"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99"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0"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401"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402"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0E589285-826F-41CD-8FF8-3DDBFFF0DB99}"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0" name="Picture 212" descr="WSV_RGB_M"/>
          <p:cNvPicPr/>
          <p:nvPr/>
        </p:nvPicPr>
        <p:blipFill>
          <a:blip r:embed="rId2"/>
          <a:stretch/>
        </p:blipFill>
        <p:spPr>
          <a:xfrm>
            <a:off x="7488360" y="343080"/>
            <a:ext cx="698400" cy="634680"/>
          </a:xfrm>
          <a:prstGeom prst="rect">
            <a:avLst/>
          </a:prstGeom>
          <a:ln w="0">
            <a:noFill/>
          </a:ln>
        </p:spPr>
      </p:pic>
      <p:pic>
        <p:nvPicPr>
          <p:cNvPr id="441" name="Picture 9" descr="WSV_Claim"/>
          <p:cNvPicPr/>
          <p:nvPr/>
        </p:nvPicPr>
        <p:blipFill>
          <a:blip r:embed="rId3"/>
          <a:stretch/>
        </p:blipFill>
        <p:spPr>
          <a:xfrm>
            <a:off x="611280" y="357120"/>
            <a:ext cx="1859040" cy="119160"/>
          </a:xfrm>
          <a:prstGeom prst="rect">
            <a:avLst/>
          </a:prstGeom>
          <a:ln w="0">
            <a:noFill/>
          </a:ln>
        </p:spPr>
      </p:pic>
      <p:grpSp>
        <p:nvGrpSpPr>
          <p:cNvPr id="442" name="*GRIDLINE01*"/>
          <p:cNvGrpSpPr/>
          <p:nvPr/>
        </p:nvGrpSpPr>
        <p:grpSpPr>
          <a:xfrm>
            <a:off x="250920" y="404640"/>
            <a:ext cx="8640720" cy="6262920"/>
            <a:chOff x="250920" y="404640"/>
            <a:chExt cx="8640720" cy="6262920"/>
          </a:xfrm>
        </p:grpSpPr>
        <p:sp>
          <p:nvSpPr>
            <p:cNvPr id="443"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5"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33"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534"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535"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2C1C547-483A-4FE3-99CF-5B7054F7DC35}"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3" name="Picture 212" descr="WSV_RGB_M"/>
          <p:cNvPicPr/>
          <p:nvPr/>
        </p:nvPicPr>
        <p:blipFill>
          <a:blip r:embed="rId2"/>
          <a:stretch/>
        </p:blipFill>
        <p:spPr>
          <a:xfrm>
            <a:off x="7488360" y="343080"/>
            <a:ext cx="698400" cy="634680"/>
          </a:xfrm>
          <a:prstGeom prst="rect">
            <a:avLst/>
          </a:prstGeom>
          <a:ln w="0">
            <a:noFill/>
          </a:ln>
        </p:spPr>
      </p:pic>
      <p:pic>
        <p:nvPicPr>
          <p:cNvPr id="574" name="Picture 9" descr="WSV_Claim"/>
          <p:cNvPicPr/>
          <p:nvPr/>
        </p:nvPicPr>
        <p:blipFill>
          <a:blip r:embed="rId3"/>
          <a:stretch/>
        </p:blipFill>
        <p:spPr>
          <a:xfrm>
            <a:off x="611280" y="357120"/>
            <a:ext cx="1859040" cy="119160"/>
          </a:xfrm>
          <a:prstGeom prst="rect">
            <a:avLst/>
          </a:prstGeom>
          <a:ln w="0">
            <a:noFill/>
          </a:ln>
        </p:spPr>
      </p:pic>
      <p:grpSp>
        <p:nvGrpSpPr>
          <p:cNvPr id="575" name="*GRIDLINE01*"/>
          <p:cNvGrpSpPr/>
          <p:nvPr/>
        </p:nvGrpSpPr>
        <p:grpSpPr>
          <a:xfrm>
            <a:off x="250920" y="404640"/>
            <a:ext cx="8640720" cy="6262920"/>
            <a:chOff x="250920" y="404640"/>
            <a:chExt cx="8640720" cy="6262920"/>
          </a:xfrm>
        </p:grpSpPr>
        <p:sp>
          <p:nvSpPr>
            <p:cNvPr id="576"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65"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66"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667"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668"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894C29C5-4012-44DE-A06E-B687C8D8B9FE}"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212" descr="WSV_RGB_M"/>
          <p:cNvPicPr/>
          <p:nvPr/>
        </p:nvPicPr>
        <p:blipFill>
          <a:blip r:embed="rId2"/>
          <a:stretch/>
        </p:blipFill>
        <p:spPr>
          <a:xfrm>
            <a:off x="7488360" y="343080"/>
            <a:ext cx="698400" cy="634680"/>
          </a:xfrm>
          <a:prstGeom prst="rect">
            <a:avLst/>
          </a:prstGeom>
          <a:ln w="0">
            <a:noFill/>
          </a:ln>
        </p:spPr>
      </p:pic>
      <p:pic>
        <p:nvPicPr>
          <p:cNvPr id="707" name="Picture 9" descr="WSV_Claim"/>
          <p:cNvPicPr/>
          <p:nvPr/>
        </p:nvPicPr>
        <p:blipFill>
          <a:blip r:embed="rId3"/>
          <a:stretch/>
        </p:blipFill>
        <p:spPr>
          <a:xfrm>
            <a:off x="611280" y="357120"/>
            <a:ext cx="1859040" cy="119160"/>
          </a:xfrm>
          <a:prstGeom prst="rect">
            <a:avLst/>
          </a:prstGeom>
          <a:ln w="0">
            <a:noFill/>
          </a:ln>
        </p:spPr>
      </p:pic>
      <p:grpSp>
        <p:nvGrpSpPr>
          <p:cNvPr id="708" name="*GRIDLINE01*"/>
          <p:cNvGrpSpPr/>
          <p:nvPr/>
        </p:nvGrpSpPr>
        <p:grpSpPr>
          <a:xfrm>
            <a:off x="250920" y="404640"/>
            <a:ext cx="8640720" cy="6262920"/>
            <a:chOff x="250920" y="404640"/>
            <a:chExt cx="8640720" cy="6262920"/>
          </a:xfrm>
        </p:grpSpPr>
        <p:sp>
          <p:nvSpPr>
            <p:cNvPr id="70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9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99"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800"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801"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74EACEBB-9174-4C06-BEB5-B6298703FD34}"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9" name="Picture 212" descr="WSV_RGB_M"/>
          <p:cNvPicPr/>
          <p:nvPr/>
        </p:nvPicPr>
        <p:blipFill>
          <a:blip r:embed="rId2"/>
          <a:stretch/>
        </p:blipFill>
        <p:spPr>
          <a:xfrm>
            <a:off x="7488360" y="343080"/>
            <a:ext cx="698400" cy="634680"/>
          </a:xfrm>
          <a:prstGeom prst="rect">
            <a:avLst/>
          </a:prstGeom>
          <a:ln w="0">
            <a:noFill/>
          </a:ln>
        </p:spPr>
      </p:pic>
      <p:pic>
        <p:nvPicPr>
          <p:cNvPr id="840" name="Picture 9" descr="WSV_Claim"/>
          <p:cNvPicPr/>
          <p:nvPr/>
        </p:nvPicPr>
        <p:blipFill>
          <a:blip r:embed="rId3"/>
          <a:stretch/>
        </p:blipFill>
        <p:spPr>
          <a:xfrm>
            <a:off x="611280" y="357120"/>
            <a:ext cx="1859040" cy="119160"/>
          </a:xfrm>
          <a:prstGeom prst="rect">
            <a:avLst/>
          </a:prstGeom>
          <a:ln w="0">
            <a:noFill/>
          </a:ln>
        </p:spPr>
      </p:pic>
      <p:grpSp>
        <p:nvGrpSpPr>
          <p:cNvPr id="841" name="*GRIDLINE01*"/>
          <p:cNvGrpSpPr/>
          <p:nvPr/>
        </p:nvGrpSpPr>
        <p:grpSpPr>
          <a:xfrm>
            <a:off x="250920" y="404640"/>
            <a:ext cx="8640720" cy="6262920"/>
            <a:chOff x="250920" y="404640"/>
            <a:chExt cx="8640720" cy="6262920"/>
          </a:xfrm>
        </p:grpSpPr>
        <p:sp>
          <p:nvSpPr>
            <p:cNvPr id="842"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1"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2"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933"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934"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F2DD6AAA-5171-4F11-87E3-CF3ED865D6AB}"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2" name="Picture 212" descr="WSV_RGB_M"/>
          <p:cNvPicPr/>
          <p:nvPr/>
        </p:nvPicPr>
        <p:blipFill>
          <a:blip r:embed="rId2"/>
          <a:stretch/>
        </p:blipFill>
        <p:spPr>
          <a:xfrm>
            <a:off x="7488360" y="343080"/>
            <a:ext cx="698400" cy="634680"/>
          </a:xfrm>
          <a:prstGeom prst="rect">
            <a:avLst/>
          </a:prstGeom>
          <a:ln w="0">
            <a:noFill/>
          </a:ln>
        </p:spPr>
      </p:pic>
      <p:pic>
        <p:nvPicPr>
          <p:cNvPr id="973" name="Picture 9" descr="WSV_Claim"/>
          <p:cNvPicPr/>
          <p:nvPr/>
        </p:nvPicPr>
        <p:blipFill>
          <a:blip r:embed="rId3"/>
          <a:stretch/>
        </p:blipFill>
        <p:spPr>
          <a:xfrm>
            <a:off x="611280" y="357120"/>
            <a:ext cx="1859040" cy="119160"/>
          </a:xfrm>
          <a:prstGeom prst="rect">
            <a:avLst/>
          </a:prstGeom>
          <a:ln w="0">
            <a:noFill/>
          </a:ln>
        </p:spPr>
      </p:pic>
      <p:grpSp>
        <p:nvGrpSpPr>
          <p:cNvPr id="974" name="*GRIDLINE01*"/>
          <p:cNvGrpSpPr/>
          <p:nvPr/>
        </p:nvGrpSpPr>
        <p:grpSpPr>
          <a:xfrm>
            <a:off x="250920" y="404640"/>
            <a:ext cx="8640720" cy="6262920"/>
            <a:chOff x="250920" y="404640"/>
            <a:chExt cx="8640720" cy="6262920"/>
          </a:xfrm>
        </p:grpSpPr>
        <p:sp>
          <p:nvSpPr>
            <p:cNvPr id="975"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6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65"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066"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067"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52F74963-174B-4ACD-A7F7-40BD8BFD5679}"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11280" y="917640"/>
            <a:ext cx="590544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base for harmonized data protection</a:t>
            </a:r>
            <a:br>
              <a:rPr sz="2400"/>
            </a:br>
            <a:r>
              <a:rPr b="0" lang="de-DE" sz="1600" spc="-1" strike="noStrike">
                <a:solidFill>
                  <a:srgbClr val="000000"/>
                </a:solidFill>
                <a:latin typeface="Arial"/>
              </a:rPr>
              <a:t>Stefan Jenner   Meeting of IALA LAP 12  March 7-8, 2013</a:t>
            </a:r>
            <a:r>
              <a:rPr b="1" lang="de-DE" sz="1600" spc="-1" strike="noStrike">
                <a:solidFill>
                  <a:srgbClr val="000000"/>
                </a:solidFill>
                <a:latin typeface="Arial"/>
              </a:rPr>
              <a:t> </a:t>
            </a:r>
            <a:endParaRPr b="1" lang="en-US" sz="1600" spc="-1" strike="noStrike">
              <a:solidFill>
                <a:srgbClr val="000000"/>
              </a:solidFill>
              <a:latin typeface="Arial"/>
            </a:endParaRPr>
          </a:p>
        </p:txBody>
      </p:sp>
      <p:pic>
        <p:nvPicPr>
          <p:cNvPr id="1511" name="Picture 4" descr="impress4"/>
          <p:cNvPicPr/>
          <p:nvPr/>
        </p:nvPicPr>
        <p:blipFill>
          <a:blip r:embed="rId1"/>
          <a:stretch/>
        </p:blipFill>
        <p:spPr>
          <a:xfrm>
            <a:off x="2627280" y="1989000"/>
            <a:ext cx="6265800" cy="4680000"/>
          </a:xfrm>
          <a:prstGeom prst="rect">
            <a:avLst/>
          </a:prstGeom>
          <a:ln w="0">
            <a:noFill/>
          </a:ln>
        </p:spPr>
      </p:pic>
      <p:pic>
        <p:nvPicPr>
          <p:cNvPr id="1512" name="Picture 5" descr="schiff47"/>
          <p:cNvPicPr/>
          <p:nvPr/>
        </p:nvPicPr>
        <p:blipFill>
          <a:blip r:embed="rId2"/>
          <a:srcRect l="20153" t="0" r="23706" b="0"/>
          <a:stretch/>
        </p:blipFill>
        <p:spPr>
          <a:xfrm>
            <a:off x="250920" y="1989000"/>
            <a:ext cx="2305080" cy="3095640"/>
          </a:xfrm>
          <a:prstGeom prst="rect">
            <a:avLst/>
          </a:prstGeom>
          <a:ln w="0">
            <a:noFill/>
          </a:ln>
        </p:spPr>
      </p:pic>
      <p:pic>
        <p:nvPicPr>
          <p:cNvPr id="1513" name="Picture 6" descr="impress4"/>
          <p:cNvPicPr/>
          <p:nvPr/>
        </p:nvPicPr>
        <p:blipFill>
          <a:blip r:embed="rId3"/>
          <a:srcRect l="13531" t="55653" r="30532" b="252"/>
          <a:stretch/>
        </p:blipFill>
        <p:spPr>
          <a:xfrm>
            <a:off x="250920" y="5121360"/>
            <a:ext cx="2340000" cy="1547640"/>
          </a:xfrm>
          <a:prstGeom prst="rect">
            <a:avLst/>
          </a:prstGeom>
          <a:ln w="0">
            <a:noFill/>
          </a:ln>
        </p:spPr>
      </p:pic>
      <p:sp>
        <p:nvSpPr>
          <p:cNvPr id="1514" name="Rectangle 7"/>
          <p:cNvSpPr/>
          <p:nvPr/>
        </p:nvSpPr>
        <p:spPr>
          <a:xfrm>
            <a:off x="1763640" y="5121360"/>
            <a:ext cx="7164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5" name="Rectangle 8"/>
          <p:cNvSpPr/>
          <p:nvPr/>
        </p:nvSpPr>
        <p:spPr>
          <a:xfrm>
            <a:off x="250920" y="587700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6" name="Rectangle 9"/>
          <p:cNvSpPr/>
          <p:nvPr/>
        </p:nvSpPr>
        <p:spPr>
          <a:xfrm>
            <a:off x="971640" y="5121360"/>
            <a:ext cx="7128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7" name="Rectangle 10"/>
          <p:cNvSpPr/>
          <p:nvPr/>
        </p:nvSpPr>
        <p:spPr>
          <a:xfrm>
            <a:off x="250920" y="508464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8" name="Rectangle 11"/>
          <p:cNvSpPr/>
          <p:nvPr/>
        </p:nvSpPr>
        <p:spPr>
          <a:xfrm>
            <a:off x="2556000" y="1989000"/>
            <a:ext cx="71280" cy="46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7B821347-8504-42E9-9055-4C3BCF461E12}"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sequences</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ssing of AIS data needs to be legitimat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urpose-limita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letion of data when purpose is fullfiel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change only if purpose does not change or other legal bas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roportionality</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curity measur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645F6914-C8CF-46AF-ADA0-2ACF21ED8A02}"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oral exchange = change of the purpose of data proc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ational exchange = adequate level of protection ensured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framework requierd</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ensure that purpose of data proceeding has a legal legitimation in the 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o ensure that the principle of data prtection are obtaine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E560A8D2-D344-4A8E-8A75-0F7F54CC6E1F}"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slation Level</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Multilateral Conven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Law</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irective/Regula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ventions of Nations that intend to build up data exchange syst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F243A03C-5738-4429-91C2-25B3889C5CD9}"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Requierements for framework Regula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urpose of limitation after exchang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yfy Data own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ify Data Us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daquaete level of data protection and security</a:t>
            </a:r>
            <a:r>
              <a:rPr b="0" lang="de-DE" sz="1600" spc="-1" strike="noStrike">
                <a:solidFill>
                  <a:srgbClr val="000000"/>
                </a:solidFill>
                <a:latin typeface="Arial"/>
              </a:rPr>
              <a:t>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fer to third states with adaequate level of data protection</a:t>
            </a: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7C8C85FD-F22B-45FB-A138-0D9959DB448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itiative of maritiem data exchange – Exampl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ISE (IM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NO</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MM</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p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V</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CBAS (Surveilance Cooperation Baltic Se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COM</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th Sea Data Exchang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SN (SafeSeaNet) driven by EMS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SUR driven by FFRONTEX</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R driven by E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F946E84-2DCA-47AB-8141-09C4FF3DABC7}"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avigation</a:t>
            </a:r>
            <a:br>
              <a:rPr sz="1600"/>
            </a:br>
            <a:r>
              <a:rPr b="0" lang="en-US" sz="1600" spc="-1" strike="noStrike">
                <a:solidFill>
                  <a:srgbClr val="000000"/>
                </a:solidFill>
                <a:latin typeface="Arial"/>
              </a:rPr>
              <a:t>E-Navigation is an overarching concept developed under the patronage of the IMO   to crease </a:t>
            </a:r>
            <a:r>
              <a:rPr b="1" lang="en-US" sz="1600" spc="-1" strike="noStrike">
                <a:solidFill>
                  <a:srgbClr val="000000"/>
                </a:solidFill>
                <a:latin typeface="Arial"/>
              </a:rPr>
              <a:t>safety</a:t>
            </a:r>
            <a:r>
              <a:rPr b="0" lang="en-US" sz="1600" spc="-1" strike="noStrike">
                <a:solidFill>
                  <a:srgbClr val="000000"/>
                </a:solidFill>
                <a:latin typeface="Arial"/>
              </a:rPr>
              <a:t> and security in maritime shipping by better organization of information flow on ships and on shore, and </a:t>
            </a:r>
            <a:r>
              <a:rPr b="1" lang="en-US" sz="1600" spc="-1" strike="noStrike">
                <a:solidFill>
                  <a:srgbClr val="000000"/>
                </a:solidFill>
                <a:latin typeface="Arial"/>
              </a:rPr>
              <a:t>better data exchange</a:t>
            </a:r>
            <a:r>
              <a:rPr b="0" lang="en-US" sz="1600" spc="-1" strike="noStrike">
                <a:solidFill>
                  <a:srgbClr val="000000"/>
                </a:solidFill>
                <a:latin typeface="Arial"/>
              </a:rPr>
              <a:t> and communication between the two sid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O- and IALA-definition: </a:t>
            </a:r>
            <a:r>
              <a:rPr b="0" i="1" lang="en-US" sz="1600" spc="-1" strike="noStrike">
                <a:solidFill>
                  <a:srgbClr val="000000"/>
                </a:solidFill>
                <a:latin typeface="Arial"/>
              </a:rPr>
              <a:t>E-Navigation is the harmonized collection, integration, exchange and presentation and analysis of maritime information onboard and ashore by electronic means to enhance berth to berth navigation and related services, for safety and security at sea and protection of the marine environmen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rojects -example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 Lis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SEAS</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E80C8AEE-D0E9-4838-8340-BE997B84162B}"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aritim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EU e-Maritime initiative aims to promote coherent, transparent, efficient and simplified solutions based on advanced information technologies.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Commiss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itime transport data to enhance the transport chain in a whol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AEFD84BA-B565-480E-86AD-BF9F7D489C4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ed to share shipping data intersectoral and interna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30842E4C-7AD2-483C-A665-1EB7B3BF103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hipping data sources ?</a:t>
            </a:r>
            <a:endParaRPr b="1" lang="en-US" sz="2400" spc="-1" strike="noStrike">
              <a:solidFill>
                <a:srgbClr val="000000"/>
              </a:solidFill>
              <a:latin typeface="Arial"/>
            </a:endParaRPr>
          </a:p>
        </p:txBody>
      </p:sp>
      <p:sp>
        <p:nvSpPr>
          <p:cNvPr id="1543" name="PlaceHolder 2"/>
          <p:cNvSpPr>
            <a:spLocks noGrp="1"/>
          </p:cNvSpPr>
          <p:nvPr>
            <p:ph/>
          </p:nvPr>
        </p:nvSpPr>
        <p:spPr>
          <a:xfrm>
            <a:off x="610920" y="1599840"/>
            <a:ext cx="7561080" cy="4708440"/>
          </a:xfrm>
          <a:prstGeom prst="rect">
            <a:avLst/>
          </a:prstGeom>
          <a:noFill/>
          <a:ln w="0">
            <a:noFill/>
          </a:ln>
        </p:spPr>
        <p:txBody>
          <a:bodyPr lIns="0" rIns="0" tIns="0" bIns="0" anchor="t">
            <a:normAutofit fontScale="98000"/>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MS </a:t>
            </a:r>
            <a:r>
              <a:rPr b="0" lang="de-DE" sz="1600" spc="-1" strike="noStrike">
                <a:solidFill>
                  <a:srgbClr val="000000"/>
                </a:solidFill>
                <a:latin typeface="Arial"/>
              </a:rPr>
              <a:t>(common fisheries policy) Regulation (EC) 1489/97 and 2244/2003</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RIT</a:t>
            </a:r>
            <a:r>
              <a:rPr b="0" lang="de-DE" sz="1600" spc="-1" strike="noStrike">
                <a:solidFill>
                  <a:srgbClr val="000000"/>
                </a:solidFill>
                <a:latin typeface="Arial"/>
              </a:rPr>
              <a:t> (Long Range indetifications an Tracking of Ship SOLAS V 19-1 IMO Resulotion MSC.202(8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 Reporting Systems</a:t>
            </a:r>
            <a:r>
              <a:rPr b="0" lang="de-DE" sz="1600" spc="-1" strike="noStrike">
                <a:solidFill>
                  <a:srgbClr val="000000"/>
                </a:solidFill>
                <a:latin typeface="Arial"/>
              </a:rPr>
              <a:t> SOLAS V 1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ification of dangerous goods aboard ship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 2002/59/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 security notification </a:t>
            </a:r>
            <a:r>
              <a:rPr b="0" lang="de-DE" sz="1600" spc="-1" strike="noStrike">
                <a:solidFill>
                  <a:srgbClr val="000000"/>
                </a:solidFill>
                <a:latin typeface="Arial"/>
              </a:rPr>
              <a:t>Regulation (EC) 725/2004 SOLAS XI-2 ISPS-Cod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IS</a:t>
            </a:r>
            <a:r>
              <a:rPr b="0" lang="de-DE" sz="1600" spc="-1" strike="noStrike">
                <a:solidFill>
                  <a:srgbClr val="000000"/>
                </a:solidFill>
                <a:latin typeface="Arial"/>
              </a:rPr>
              <a:t> Automatic Identification System SOLAS V 19 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13039D82-BAA8-45B5-B651-1EC3D5F56CFF}"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4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Base for AI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Restraints for data proce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Data Protection Directive 95/46/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Data Protection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006589EC-7840-4CAA-AD97-CF8D80AAED28}"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5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e AIS Data personal data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a:t>
            </a:r>
            <a:r>
              <a:rPr b="0" lang="de-DE" sz="1600" spc="-1" strike="noStrike">
                <a:solidFill>
                  <a:srgbClr val="000000"/>
                </a:solidFill>
                <a:latin typeface="Arial"/>
              </a:rPr>
              <a:t>of personal data, Art. 1 EU Directive 95/46/EC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a:t>
            </a:r>
            <a:r>
              <a:rPr b="0" lang="de-DE" sz="1600" spc="-1" strike="noStrike">
                <a:solidFill>
                  <a:srgbClr val="000000"/>
                </a:solidFill>
                <a:latin typeface="Arial"/>
              </a:rPr>
              <a:t>of AIS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MMSI/IMO Number.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Navigation statu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 Speed over ground</a:t>
            </a:r>
            <a:r>
              <a:rPr b="0" lang="de-DE" sz="1600" spc="-1" strike="noStrike">
                <a:solidFill>
                  <a:srgbClr val="000000"/>
                </a:solidFill>
                <a:latin typeface="Arial"/>
              </a:rPr>
              <a:t> – 0.1-knot (0.19 km/h) resolution from 0 to 102 knots (189 km/h)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clusion</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th other informations (crew list, passenger notificaton, vessel owner) it is possible to connect AIS Data with a natural person. AIS data are to be regardes as personal data. </a:t>
            </a:r>
            <a:endParaRPr b="0" lang="en-US" sz="1600" spc="-1" strike="noStrike">
              <a:solidFill>
                <a:srgbClr val="000000"/>
              </a:solidFill>
              <a:latin typeface="Arial"/>
            </a:endParaRPr>
          </a:p>
        </p:txBody>
      </p:sp>
      <p:pic>
        <p:nvPicPr>
          <p:cNvPr id="1554" name="Picture 5" descr=""/>
          <p:cNvPicPr/>
          <p:nvPr/>
        </p:nvPicPr>
        <p:blipFill>
          <a:blip r:embed="rId1"/>
          <a:stretch/>
        </p:blipFill>
        <p:spPr>
          <a:xfrm>
            <a:off x="2987640" y="2421000"/>
            <a:ext cx="504036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E8CD5D41-D82F-4469-88D1-0248D7B92209}"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Open data ?</a:t>
            </a:r>
            <a:endParaRPr b="1" lang="en-US" sz="2400" spc="-1" strike="noStrike">
              <a:solidFill>
                <a:srgbClr val="000000"/>
              </a:solidFill>
              <a:latin typeface="Arial"/>
            </a:endParaRPr>
          </a:p>
        </p:txBody>
      </p:sp>
      <p:sp>
        <p:nvSpPr>
          <p:cNvPr id="15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IS Data are not encrypted and are provided on open frequenci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one who has an appropriate receiver can perceive the informat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of the EU commission: Legal aspects of maritime monitoring &amp; surveillance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sition of the USA: MSC 79th session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cryption is no requirement for data protec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ee accseas means not no legal restraints (see copyriht of pics in the internet)</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 (Germany and Austria as exampl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mercial intrests (identification of patterns in the flow of goods=business sec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0:48Z</dcterms:created>
  <dc:creator/>
  <dc:description/>
  <dc:language>en-US</dc:language>
  <cp:lastModifiedBy>Marie-Hélène Grillet</cp:lastModifiedBy>
  <dcterms:modified xsi:type="dcterms:W3CDTF">2013-03-06T09:50:36Z</dcterms:modified>
  <cp:revision>3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12.02.2013</vt:lpwstr>
  </property>
  <property fmtid="{D5CDD505-2E9C-101B-9397-08002B2CF9AE}" pid="3" name="Presenter">
    <vt:lpwstr>Stefan Jenner</vt:lpwstr>
  </property>
  <property fmtid="{D5CDD505-2E9C-101B-9397-08002B2CF9AE}" pid="4" name="Template">
    <vt:lpwstr>WSV_template.pot</vt:lpwstr>
  </property>
</Properties>
</file>