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12.jpeg" ContentType="image/jpeg"/>
  <Override PartName="/ppt/media/image8.wmf" ContentType="image/x-wmf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7905FFC-EF24-44F6-8677-27FB0E47AD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94CE765-CABA-42BA-9270-CD6E1732A8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F86D56D-698B-42CE-AC3B-61A6C860F3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463369A-1AC3-4705-BFF9-73F6A8AD46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70E2B58-A5CF-475F-BEB7-402D00BEE6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84611C2-D4A4-448C-8079-06FD2D5AFE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F142A01-207F-47EB-B36A-008AF0D5DB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0473A22-1780-435D-AA45-2EB4E41A2B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909A6-19ED-4C88-93AE-8E01C8787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FB0A9-B661-4619-A9DE-026E893D1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BBBA4-591B-4017-A3F8-8DD9FB0E6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BAD70-0872-4EEF-A1B6-F1EDD81CB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85660-42A0-4904-A9AA-9121E3061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AD4D6-4480-4CAB-BAAC-A5205F198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BDF77-B433-423C-965C-51A39CD97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7DF51-923C-4A5D-87C3-6CAB814C6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1145C-C636-4346-9A46-26F2CB2DF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42162-89E3-4909-A71D-73466A1F3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C2EF3-1FEC-47E1-AE9A-8470214AA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AB4B9-AF71-4547-B891-8F926EC36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G-WBKGD1"/>
          <p:cNvPicPr/>
          <p:nvPr/>
        </p:nvPicPr>
        <p:blipFill>
          <a:blip r:embed="rId2"/>
          <a:srcRect l="0" t="0" r="0" b="1974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5EDAF-F4B5-4274-A93C-1665988439F0}" type="slidenum"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6" name="Picture 9" descr="CGLOGO"/>
          <p:cNvPicPr/>
          <p:nvPr/>
        </p:nvPicPr>
        <p:blipFill>
          <a:blip r:embed="rId3"/>
          <a:stretch/>
        </p:blipFill>
        <p:spPr>
          <a:xfrm>
            <a:off x="7772400" y="142920"/>
            <a:ext cx="1371600" cy="1314360"/>
          </a:xfrm>
          <a:prstGeom prst="rect">
            <a:avLst/>
          </a:prstGeom>
          <a:ln w="0">
            <a:noFill/>
          </a:ln>
        </p:spPr>
      </p:pic>
      <p:pic>
        <p:nvPicPr>
          <p:cNvPr id="7" name="Picture 11" descr="IALA%20logo1"/>
          <p:cNvPicPr/>
          <p:nvPr/>
        </p:nvPicPr>
        <p:blipFill>
          <a:blip r:embed="rId4"/>
          <a:srcRect l="0" t="1749" r="831" b="875"/>
          <a:stretch/>
        </p:blipFill>
        <p:spPr>
          <a:xfrm>
            <a:off x="0" y="0"/>
            <a:ext cx="1025640" cy="152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image" Target="../media/image7.jpeg"/><Relationship Id="rId6" Type="http://schemas.openxmlformats.org/officeDocument/2006/relationships/oleObject" Target="../embeddings/oleObject2.bin"/><Relationship Id="rId7" Type="http://schemas.openxmlformats.org/officeDocument/2006/relationships/image" Target="../media/image8.wmf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66680" y="990720"/>
            <a:ext cx="701064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IALA e-Navigation Committee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762120" y="2514600"/>
            <a:ext cx="7619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ll Cair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irman, IALA e-NAV Committe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r. Nick W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ce Chairm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P22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ctober 20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rtrayal W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5331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e Alexander (USA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unji Fukuto (Japan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aison note to VTS on e-Navigation Portrayal Guidelines (output/2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3" descr=""/>
          <p:cNvPicPr/>
          <p:nvPr/>
        </p:nvPicPr>
        <p:blipFill>
          <a:blip r:embed="rId1"/>
          <a:stretch/>
        </p:blipFill>
        <p:spPr>
          <a:xfrm>
            <a:off x="5943600" y="4816440"/>
            <a:ext cx="3200400" cy="20415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iscellane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380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ort and Updated Work Programme (output/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ategy elements assign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w task to manage the IALA domain in IHO S-99 and S-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ssues for PA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685800" y="15998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-Navigation across IALA Committe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ulatory approa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rolling numbers/attend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support for disturbing Committee 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4 participants was manageable in plen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umbers not an issue in W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ommend status qu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7720" y="228600"/>
            <a:ext cx="762012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-NAV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14400" y="5331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04 registered attende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1 new participa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inued the 2010-2014 work program as agreed by Counci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5 output docu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9 output documents for approval of Counci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draft Recommend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draft Guide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 draft Information Not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 liaison notes to other organizations and IALA committ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sentation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ing an e-Navigation Mindset – Nick Ward for Andy Norr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rwegian test results on S-100 – Jarle Ha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ject EfficienSea Update – Thomas Christensen (DaMS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SEAS Proposal for a North Sea e-Navigation Test Bed – Nick W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ALA e-NAV WG Structure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-Oper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- PN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-AIS Techni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-Communic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-Architecture Techni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-Portray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" name="Object 7"/>
          <p:cNvGraphicFramePr/>
          <p:nvPr/>
        </p:nvGraphicFramePr>
        <p:xfrm>
          <a:off x="6553080" y="3733920"/>
          <a:ext cx="1676520" cy="1100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53080" y="3733920"/>
                    <a:ext cx="1676520" cy="1100160"/>
                  </a:xfrm>
                  <a:prstGeom prst="rect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61" name="Picture 4" descr="AIS"/>
          <p:cNvPicPr/>
          <p:nvPr/>
        </p:nvPicPr>
        <p:blipFill>
          <a:blip r:embed="rId3"/>
          <a:stretch/>
        </p:blipFill>
        <p:spPr>
          <a:xfrm>
            <a:off x="4419720" y="3429000"/>
            <a:ext cx="1523880" cy="11192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62" name="Picture 5" descr=""/>
          <p:cNvPicPr/>
          <p:nvPr/>
        </p:nvPicPr>
        <p:blipFill>
          <a:blip r:embed="rId4"/>
          <a:stretch/>
        </p:blipFill>
        <p:spPr>
          <a:xfrm>
            <a:off x="5867280" y="2133720"/>
            <a:ext cx="1828800" cy="13064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6" descr="North Pacific heavy weather 02"/>
          <p:cNvPicPr/>
          <p:nvPr/>
        </p:nvPicPr>
        <p:blipFill>
          <a:blip r:embed="rId5"/>
          <a:stretch/>
        </p:blipFill>
        <p:spPr>
          <a:xfrm>
            <a:off x="3886200" y="1600200"/>
            <a:ext cx="1676520" cy="1144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Object 1"/>
          <p:cNvGraphicFramePr/>
          <p:nvPr/>
        </p:nvGraphicFramePr>
        <p:xfrm>
          <a:off x="4343400" y="5029200"/>
          <a:ext cx="2338560" cy="15987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Object 1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343400" y="5029200"/>
                    <a:ext cx="2338560" cy="159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Picture 3" descr=""/>
          <p:cNvPicPr/>
          <p:nvPr/>
        </p:nvPicPr>
        <p:blipFill>
          <a:blip r:embed="rId8"/>
          <a:stretch/>
        </p:blipFill>
        <p:spPr>
          <a:xfrm>
            <a:off x="6934320" y="5448240"/>
            <a:ext cx="2209680" cy="14097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rations W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vid Patraiko (Nautical Institute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Mahesh Alimchandani (Australia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aison to IMO CG on e-NAV (output/2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dated e-Navigation FAQs (output/2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4" descr="North Pacific heavy weather 02"/>
          <p:cNvPicPr/>
          <p:nvPr/>
        </p:nvPicPr>
        <p:blipFill>
          <a:blip r:embed="rId1"/>
          <a:stretch/>
        </p:blipFill>
        <p:spPr>
          <a:xfrm>
            <a:off x="7315200" y="5607000"/>
            <a:ext cx="1828800" cy="125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NT WG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7621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ter Douglas (Scotland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lin Day (Ireland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raft Recommendation on IALA Strategy for Maintaining Racon Service Capability (output/1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planned Output proposal to MSC on Multi-system Shipborne Rcvrs (output/16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4" descr=""/>
          <p:cNvPicPr/>
          <p:nvPr/>
        </p:nvPicPr>
        <p:blipFill>
          <a:blip r:embed="rId1"/>
          <a:stretch/>
        </p:blipFill>
        <p:spPr>
          <a:xfrm>
            <a:off x="5181480" y="4952880"/>
            <a:ext cx="3962520" cy="190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4" descr="AIS"/>
          <p:cNvPicPr/>
          <p:nvPr/>
        </p:nvPicPr>
        <p:blipFill>
          <a:blip r:embed="rId1"/>
          <a:stretch/>
        </p:blipFill>
        <p:spPr>
          <a:xfrm>
            <a:off x="6400800" y="5451480"/>
            <a:ext cx="2743200" cy="14065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6212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IS Technical W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440" y="914400"/>
            <a:ext cx="84582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lf Zetterberg (Swede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rge Arroyo (USA)  (apologi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raft revised IALA Rec. A-124 with Appendice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outputs/6-14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aison note to ITU-R on proposed revision of M.1371-4  (output/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aison Note to IEC on ITU M.1371-4 (output/4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aison note to ANM on minor changes to O-139 (output/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munications W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4" descr="RelationshipMode_revised"/>
          <p:cNvPicPr/>
          <p:nvPr/>
        </p:nvPicPr>
        <p:blipFill>
          <a:blip r:embed="rId1"/>
          <a:stretch/>
        </p:blipFill>
        <p:spPr>
          <a:xfrm>
            <a:off x="6705720" y="5089680"/>
            <a:ext cx="2438280" cy="17683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6094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ll Kautz (US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ter Blackhurst (INMARSAT) (apologies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ormation note on Essential Communications Elements of e-Navigation (output/18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aison note to ITU-R WP5B on Spectrum Requirements for e-Navigation (output/19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aison note to RTCM (output/2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chitecture Technical W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an-Hendrik Oltmann (Germany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ul Mueller (Tideland) (apologi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ormation paper on IALA Participation in IHO Geospatial Information Registry (output/17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bmitting Organ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main Ow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1" name="Object 1"/>
          <p:cNvGraphicFramePr/>
          <p:nvPr/>
        </p:nvGraphicFramePr>
        <p:xfrm>
          <a:off x="5867280" y="4807080"/>
          <a:ext cx="3159360" cy="205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67280" y="4807080"/>
                    <a:ext cx="3159360" cy="205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7T15:53:10Z</dcterms:created>
  <dc:creator>nickw</dc:creator>
  <dc:description/>
  <dc:language>en-US</dc:language>
  <cp:lastModifiedBy>William R Cairns</cp:lastModifiedBy>
  <dcterms:modified xsi:type="dcterms:W3CDTF">2011-10-05T11:35:53Z</dcterms:modified>
  <cp:revision>105</cp:revision>
  <dc:subject/>
  <dc:title>PowerPoint Presentation</dc:title>
</cp:coreProperties>
</file>