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457-A2E4-464E-ACBA-FA6A3109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629-1965-4D70-BE77-DD632DD7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FB9-527C-481F-93DB-B74C1F8E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B49-26D8-4EDF-B139-A2ED6D3A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D08-5FB0-4D94-B841-9494BFCC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EF7-9260-46D1-B63F-76F5757E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25F-0948-4D1A-A775-32B02D2F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D0E-7F74-46AE-B1E0-7F081AF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016-4A61-403B-9DD5-4C6D285B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3C5-903F-4AF6-A28D-BA635B03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2D1-4961-4800-B589-773CCC1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755-7E37-4F4C-8F47-ADF1169D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B762-0BA2-441A-9445-D12F672C6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uture of V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907920"/>
            <a:ext cx="705636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s an A to N, which is generally limited to local or region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nteracts with ships and principally provides TOS, NAS and IS.  It may also fulfil other functions as described in A 857(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introduction of A 857(20), the monitoring of, and interaction with, vessels has become a global activity (LRIT and 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and efficiency considerations now necessitate pre-arrival information well before arrival in a VT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e organisations at local, regional and national level need to interact with vessels world w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189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lobal Interaction with Vessel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532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no international organisation is co-ordinating or providing guidance on this global interaction with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thus a role to be filled in the context of vessel traffic, and at a level higher than traditional 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ight be provided b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ssel Traffic Management” (V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is as yet undefined formally.  One possible definition is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VTM is a collection of global activities supported by   information services which, improve the safety, security, efficiency and environmental protection of vessels and cargo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6828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108000" y="-6336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-6336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45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258560" y="1844280"/>
            <a:ext cx="36036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1844280"/>
            <a:ext cx="43200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94920" y="5516640"/>
            <a:ext cx="289080" cy="360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5661000"/>
            <a:ext cx="215640" cy="2160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26828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LA should structure its committees to provide guidance, where appropriate, on VTM 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is end, it is suggested that  the VTS Committee be re-named the VTM Committee and adjusts its work programme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TM and E-Nav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056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ole of the VTM committee would include the specification of VTM functional needs and the provision of VTM guidance and recommendatio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-Nav (and other committees such ANM) would provide technical guidance on how those functional needs are best deli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unctional needs could include shore-to-shore and  shore-to-ship information exchange.  It could also influence future ship-to-ship data exchang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661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149720"/>
            <a:ext cx="6553080" cy="151272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14972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- Nav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harmonisation of the means for collecting, distributing and presenting information related to maritime safety, security, efficiency and environment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51640" y="1844280"/>
            <a:ext cx="43344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476360" y="1916280"/>
            <a:ext cx="28728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5589720"/>
            <a:ext cx="215640" cy="215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9640" y="5589720"/>
            <a:ext cx="216000" cy="287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2:38:29Z</dcterms:created>
  <dc:creator>BruceR</dc:creator>
  <dc:description/>
  <dc:language>en-US</dc:language>
  <cp:lastModifiedBy>BruceR</cp:lastModifiedBy>
  <dcterms:modified xsi:type="dcterms:W3CDTF">2006-09-14T12:19:06Z</dcterms:modified>
  <cp:revision>11</cp:revision>
  <dc:subject/>
  <dc:title>Slide 1</dc:title>
</cp:coreProperties>
</file>