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0E8-B9C6-438D-92E5-881B56F8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660-B054-46BD-BB97-97D99073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4D4-61F4-41E9-B060-A30CBB62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57B-4743-4873-A08C-770DC4B1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10C-EE67-49F5-89EB-A1B2276D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53A-A715-4742-8BF3-101EE812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47F-83BA-44F0-AA82-3379C26A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AD1-3F96-49FE-8410-669B2165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B31-FCAC-45B3-A41E-6BB31F7B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62D-CC1B-408A-BF15-D1B8CCEE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F9F-D890-424E-B757-87E496CC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BF0-30E6-4BEC-A13E-C6374870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B145-6B18-43D6-848F-91D76F088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260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uture of V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907920"/>
            <a:ext cx="705636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s an A to N, which is generally limited to local or regional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nteracts with ships and principally provides TOS, NAS and IS.  It may also fulfil other functions as described in A 857(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introduction of A 857(20), the monitoring of, and interaction with, vessels has become a global activity (LRIT and A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and efficiency considerations now necessitate pre-arrival information well before arrival in a VT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e organisations at local, regional and national level need to interact with vessels world w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189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lobal Interaction with Vessel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532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, no international organisation is co-ordinating or providing guidance on this global interaction with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thus a role to be filled in the context of vessel traffic, and at a level higher than traditional 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might be provided b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ssel Traffic Management” (VT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is as yet undefined formally.  One possible definition is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VTM is a collection of global activities supported by   information services which, improve the safety, security, efficiency and environmental protection of vessels and cargo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68280"/>
            <a:ext cx="8497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-108000" y="-6336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-6336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45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258560" y="1844280"/>
            <a:ext cx="36036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1844280"/>
            <a:ext cx="43200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94920" y="5516640"/>
            <a:ext cx="289080" cy="360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5661000"/>
            <a:ext cx="215640" cy="2160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268280"/>
            <a:ext cx="84978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LA should structure its committees to provide guidance, where appropriate, on VTM iss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is end, it is suggested that  the VTS Committee be re-named the VTM Committee and adjusts its work programme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TM and E-Nav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056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ole of the VTM committee would include the specification of VTM functional needs and the provision of VTM guidance and recommendatio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-Nav (and other committees such ANM) would provide technical guidance on how those functional needs are best deli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unctional needs could include shore-to-shore and  shore-to-ship information exchange.  It could also influence future ship-to-ship data exchang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5661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4149720"/>
            <a:ext cx="6553080" cy="1512720"/>
          </a:xfrm>
          <a:prstGeom prst="rect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14972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- Nav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harmonisation of the means for collecting, distributing and presenting information related to maritime safety, security, efficiency and environment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451640" y="1844280"/>
            <a:ext cx="43344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476360" y="1916280"/>
            <a:ext cx="28728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5589720"/>
            <a:ext cx="215640" cy="215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6836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9640" y="5589720"/>
            <a:ext cx="216000" cy="28728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2:38:29Z</dcterms:created>
  <dc:creator>BruceR</dc:creator>
  <dc:description/>
  <dc:language>en-US</dc:language>
  <cp:lastModifiedBy>BruceR</cp:lastModifiedBy>
  <dcterms:modified xsi:type="dcterms:W3CDTF">2006-09-14T12:19:06Z</dcterms:modified>
  <cp:revision>11</cp:revision>
  <dc:subject/>
  <dc:title>Slide 1</dc:title>
</cp:coreProperties>
</file>