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EF2-EC87-4CBC-8523-D11F4E68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7C9-43FA-4637-B06B-9E32DE16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25A-1B9C-433B-910D-46BD50AC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D72-4D05-4AC7-8FD1-B996E5E4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FB6-4CEF-4338-954D-00CF4D13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8A2-460C-4EA2-9D08-C34FF750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8E6-2D13-4D00-8AEA-E019A360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0E0-F577-4814-A438-7B6524F1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437-194B-45C0-B9FE-C34B81FE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CD6-F2A2-4BED-8FF4-B2664235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33C-660B-49F4-A663-9B1081FD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65C7-0D33-4CCF-822E-E25668A5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920A-9F6C-4326-B15D-30FFC35A06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ALA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IALA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ED8F-3709-45C6-A46F-9819A3E2131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B130-67F8-4440-A1B2-436B429FA84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g00000c687777.tmp" descr="C:\Users\phild\AppData\Local\MindMaple\Temp\Img00000c687777.tmp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5:03:11Z</dcterms:created>
  <dc:creator>PhilD</dc:creator>
  <dc:description/>
  <dc:language>en-US</dc:language>
  <cp:lastModifiedBy/>
  <dcterms:modified xsi:type="dcterms:W3CDTF">2013-05-01T08:37:40Z</dcterms:modified>
  <cp:revision>3</cp:revision>
  <dc:subject/>
  <dc:title>IALA Documentation</dc:title>
</cp:coreProperties>
</file>