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89D-08C1-4B8D-9572-4FE7B651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8BA-90FC-4228-800D-80680114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41A-6CBD-4E2E-9A04-30FFCC87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0A6-22EE-4DF4-B21A-ECD5F11D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B11-07A3-4180-9B77-CF379AD5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AAD-2481-4926-A134-779A5D5D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091-554C-46DF-892B-6EFDABCB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293-00BC-4AA1-A76B-46F619CA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391-EDA6-4632-A13D-CB6B95FE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263-940F-4443-B764-1522CACF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112-5618-47CD-A76D-38B600C2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FB7-F170-469C-99E6-CDFC476F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7AEF-55E7-486C-9019-F85A9DD100E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ALA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IALA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F5A0-C52D-40E6-846E-D540E545059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4204-D5C0-4125-8588-B29C646F4DF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g00000c687777.tmp" descr="C:\Users\phild\AppData\Local\MindMaple\Temp\Img00000c687777.tmp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5:03:11Z</dcterms:created>
  <dc:creator>PhilD</dc:creator>
  <dc:description/>
  <dc:language>en-US</dc:language>
  <cp:lastModifiedBy/>
  <dcterms:modified xsi:type="dcterms:W3CDTF">2013-05-01T08:37:40Z</dcterms:modified>
  <cp:revision>3</cp:revision>
  <dc:subject/>
  <dc:title>IALA Documentation</dc:title>
</cp:coreProperties>
</file>