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DC5-C7CA-41BB-8A1A-5445511E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12A-2807-4B12-8B71-BBFAEBF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E44-59E6-451A-A934-6BCE73BD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AB5-FC06-4BDD-A914-34DA8715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D6F-164D-40A8-8EC5-4E99675E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AFC-2551-4A26-9C77-2043065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064-9BDB-4D2B-8324-C8F437A6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251-AB5D-49CE-8C4C-64860415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CE2-4BF9-470E-83C1-2911BCF5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3C4-15E9-4359-9AF1-733E82FC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386-4F9C-4A20-8F58-F36B0C50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1C4-0896-49BE-9D13-634E8B35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DBBA-8C25-4DAF-A8B8-7ECA4E1046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ALA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IALA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96AC-D59F-4C80-A534-EC612CE6F5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903C-C9E5-46DD-8579-684BE46720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g00000c687777.tmp" descr="C:\Users\phild\AppData\Local\MindMaple\Temp\Img00000c687777.tm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5:03:11Z</dcterms:created>
  <dc:creator>PhilD</dc:creator>
  <dc:description/>
  <dc:language>en-US</dc:language>
  <cp:lastModifiedBy/>
  <dcterms:modified xsi:type="dcterms:W3CDTF">2013-05-01T08:37:40Z</dcterms:modified>
  <cp:revision>3</cp:revision>
  <dc:subject/>
  <dc:title>IALA Documentation</dc:title>
</cp:coreProperties>
</file>