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B8CC-91A7-4A17-B213-C169DACB6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3D01-0D10-411E-BA9A-1DF08F17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6086-D1E8-4691-B025-28D7142FA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8E6C-76EF-428D-B959-1BB3F4C09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C069-F79B-4282-A266-DEBB485C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850D-C116-4D5F-9A28-244B658D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BCBD-1597-4442-99C9-03B14C82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EC1F-583B-4820-AE2A-698FD16C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90BD-FC3B-445F-9F31-107247D9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1BC3-EBB6-40EE-8060-96E7961D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E312-6C22-4BAC-AA68-0712B415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9520-37C7-4C1C-8791-0399B0DA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77AA-45B2-4C2B-9EF5-445393D302D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ALA Docu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7f7f"/>
                </a:solidFill>
                <a:latin typeface="Calibri"/>
              </a:rPr>
              <a:t>IALA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77FA-B7C5-4926-B2AC-4E76990B971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3DA4-638B-4400-AB41-628B9EA3518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g00000c687777.tmp" descr="C:\Users\phild\AppData\Local\MindMaple\Temp\Img00000c687777.tmp"/>
          <p:cNvPicPr/>
          <p:nvPr/>
        </p:nvPicPr>
        <p:blipFill>
          <a:blip r:embed="rId1"/>
          <a:stretch/>
        </p:blipFill>
        <p:spPr>
          <a:xfrm>
            <a:off x="395280" y="981000"/>
            <a:ext cx="8424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8T15:03:11Z</dcterms:created>
  <dc:creator>PhilD</dc:creator>
  <dc:description/>
  <dc:language>en-US</dc:language>
  <cp:lastModifiedBy/>
  <dcterms:modified xsi:type="dcterms:W3CDTF">2013-05-01T08:37:40Z</dcterms:modified>
  <cp:revision>3</cp:revision>
  <dc:subject/>
  <dc:title>IALA Documentation</dc:title>
</cp:coreProperties>
</file>