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CB0E-DA25-4408-AA4B-DC22ACAAB1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A82F-548C-4B30-A033-7EF050365DE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ea typeface="Times New Roman"/>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CFDE-AE73-4077-B366-7ED852250FA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A3150-3C22-48E7-A556-284F4951E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BF413-D34A-4038-8417-A57C80113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752A8-9501-4229-9542-60AAE3484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293A3-6FED-464A-B26A-871838414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3C4C0-ECFB-4EA6-9475-3163E366C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5C469-C277-48F4-9032-A417F8E8A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C1E68-E419-460C-9E51-C967BCAB9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EFC9C-631E-4ED2-8AE0-61181D17C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2440A-21C4-4662-8435-8F27E4D21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53EC4-27BD-48C0-A298-FC1088829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9E015-9C4F-4956-B2D5-0C80A84B6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8B34A-2A52-406B-9D17-2A70DE184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4583-C7CC-4FC1-A639-E2E4F1A97BF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avigation Committee updat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 14</a:t>
            </a:r>
            <a:endParaRPr b="1" lang="en-US" sz="4000" spc="-1" strike="noStrike">
              <a:solidFill>
                <a:srgbClr val="000000"/>
              </a:solidFill>
              <a:latin typeface="Arial"/>
            </a:endParaRPr>
          </a:p>
        </p:txBody>
      </p:sp>
      <p:sp>
        <p:nvSpPr>
          <p:cNvPr id="51" name=""/>
          <p:cNvSpPr txBox="1"/>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6 people from 27 countries, 7 sister organis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8 new and 7 ob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4 input papers, 28 output pap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draft Recommendations, 6 draft Guide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Liaison notes, NAVGUIDE upd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inputs to Polar AtoN workshop, 1 WWA model cour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presentations: WWA; Maritime Cloud; MARR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ess Revie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major tasks in 2010-14 WP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trategy – e-Navigation</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armonise the information structure, Maritime Service Portfolios, and communications for e-Navigation by creating IALA Standards and by cooperation with other IGOs, to achieve worldwide interoperability of shore and ship systems’ 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mplete the development of Standards for future sea navigation services to assist the mariner and increase safety and efficiency in congested wa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4 year strategy items</a:t>
            </a:r>
            <a:endParaRPr b="1" lang="en-US" sz="4000" spc="-1" strike="noStrike">
              <a:solidFill>
                <a:srgbClr val="000000"/>
              </a:solidFill>
              <a:latin typeface="Arial"/>
            </a:endParaRPr>
          </a:p>
        </p:txBody>
      </p:sp>
      <p:sp>
        <p:nvSpPr>
          <p:cNvPr id="55" name=""/>
          <p:cNvSpPr txBox="1"/>
          <p:nvPr/>
        </p:nvSpPr>
        <p:spPr>
          <a:xfrm>
            <a:off x="468360" y="14130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2. Lay the groundwork for  interoperability of shore and ship systems in e-Navigation data and communications by creating Standards for VDES, MSP, and resilient PNT, including their acceptance by IMO and ITU, and  commence the process of populating the IALA Domain in the IHO S-100 Registe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3. Have two demonstrators for future Sea Navigation Services in operation in member states, and have initiated work on technical standards and operating procedures for national or regional use.</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opic Domains</a:t>
            </a:r>
            <a:endParaRPr b="1" lang="en-US" sz="4000" spc="-1" strike="noStrike">
              <a:solidFill>
                <a:srgbClr val="000000"/>
              </a:solidFill>
              <a:latin typeface="Arial"/>
            </a:endParaRPr>
          </a:p>
        </p:txBody>
      </p:sp>
      <p:graphicFrame>
        <p:nvGraphicFramePr>
          <p:cNvPr id="57" name=""/>
          <p:cNvGraphicFramePr/>
          <p:nvPr/>
        </p:nvGraphicFramePr>
        <p:xfrm>
          <a:off x="457200" y="1600200"/>
          <a:ext cx="8229600" cy="4851360"/>
        </p:xfrm>
        <a:graphic>
          <a:graphicData uri="http://schemas.openxmlformats.org/drawingml/2006/table">
            <a:tbl>
              <a:tblPr/>
              <a:tblGrid>
                <a:gridCol w="514440"/>
                <a:gridCol w="7715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a modelling and message systems: AtoN data information structure, exchange, presentation; S-100 registry and Product Specifications; Message structure for e-Nav including VDES; Maritime Service Portfolios, design and 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avigation communications: VDES, satellite, MRCP; AIS technology; ASM coordination and web hosting; ITU planning and liaison, WRC preparation and national coord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ore technical infrastructure: </a:t>
                      </a:r>
                      <a:r>
                        <a:rPr b="0" lang="en-GB" sz="1800" spc="-1" strike="noStrike">
                          <a:solidFill>
                            <a:srgbClr val="948a54"/>
                          </a:solidFill>
                          <a:latin typeface="Calibri"/>
                        </a:rPr>
                        <a:t>Shore infrastructure design</a:t>
                      </a:r>
                      <a:r>
                        <a:rPr b="0" lang="en-GB" sz="1800" spc="-1" strike="noStrike">
                          <a:solidFill>
                            <a:srgbClr val="000000"/>
                          </a:solidFill>
                          <a:latin typeface="Calibri"/>
                        </a:rPr>
                        <a:t>; e-Navigation architecture; Resilient PNT shore services - DGNSS, e-Loran, other; Virtual AtoN technology; Sharing of maritime </a:t>
                      </a:r>
                      <a:r>
                        <a:rPr b="0" lang="en-GB" sz="1800" spc="-1" strike="noStrike">
                          <a:solidFill>
                            <a:srgbClr val="948a54"/>
                          </a:solidFill>
                          <a:latin typeface="Calibri"/>
                        </a:rPr>
                        <a:t>shore </a:t>
                      </a:r>
                      <a:r>
                        <a:rPr b="0" lang="en-GB" sz="1800" spc="-1" strike="noStrike">
                          <a:solidFill>
                            <a:srgbClr val="000000"/>
                          </a:solidFill>
                          <a:latin typeface="Calibri"/>
                        </a:rPr>
                        <a:t>data</a:t>
                      </a:r>
                      <a:r>
                        <a:rPr b="0" lang="en-GB" sz="1800" spc="-1" strike="noStrike">
                          <a:solidFill>
                            <a:srgbClr val="948a54"/>
                          </a:solidFill>
                          <a:latin typeface="Calibri"/>
                        </a:rPr>
                        <a:t>, IALA-NET,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uture sea navigation services: Data gathering and analysis; Participation in and harmonisation of results of test beds; Harmonisation policy and planning</a:t>
                      </a:r>
                      <a:r>
                        <a:rPr b="0" lang="en-GB" sz="1800" spc="-1" strike="noStrike">
                          <a:solidFill>
                            <a:srgbClr val="948a54"/>
                          </a:solidFill>
                          <a:latin typeface="Calibri"/>
                        </a:rPr>
                        <a:t>; Sea traffic operations, and VTS beyond territorial limits;</a:t>
                      </a:r>
                      <a:r>
                        <a:rPr b="0" lang="en-GB" sz="1800" spc="-1" strike="noStrike">
                          <a:solidFill>
                            <a:srgbClr val="000000"/>
                          </a:solidFill>
                          <a:latin typeface="Calibri"/>
                        </a:rPr>
                        <a:t> Monitoring of developments  nationally and regionally, and effect on competent authorities; </a:t>
                      </a:r>
                      <a:r>
                        <a:rPr b="0" lang="en-GB" sz="1800" spc="-1" strike="noStrike">
                          <a:solidFill>
                            <a:srgbClr val="948a54"/>
                          </a:solidFill>
                          <a:latin typeface="Calibri"/>
                        </a:rPr>
                        <a:t>Maintaining advice to IALA membership; Proposing draft IALA policy and draft standa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2014-18 Work Program</a:t>
            </a:r>
            <a:endParaRPr b="1" lang="en-US" sz="4000" spc="-1" strike="noStrike">
              <a:solidFill>
                <a:srgbClr val="000000"/>
              </a:solidFill>
              <a:latin typeface="Arial"/>
            </a:endParaRPr>
          </a:p>
        </p:txBody>
      </p:sp>
      <p:graphicFrame>
        <p:nvGraphicFramePr>
          <p:cNvPr id="59" name=""/>
          <p:cNvGraphicFramePr/>
          <p:nvPr/>
        </p:nvGraphicFramePr>
        <p:xfrm>
          <a:off x="457200" y="1600200"/>
          <a:ext cx="8229600" cy="4821120"/>
        </p:xfrm>
        <a:graphic>
          <a:graphicData uri="http://schemas.openxmlformats.org/drawingml/2006/table">
            <a:tbl>
              <a:tblPr/>
              <a:tblGrid>
                <a:gridCol w="2743200"/>
                <a:gridCol w="2743200"/>
                <a:gridCol w="274320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ea typeface="Calibri"/>
                        </a:rPr>
                        <a:t>Main heading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Topic Domai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Working Group</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 e-Navigation Implementation</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2. Overarching archite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3. Shipboard equipme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onitoring onl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4. Maritime Service Portfolio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SPs (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5. Communications: AIS &amp; VHF Data Exchange System</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Communications (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6. Integrated P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7. Shore-based infra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8. Common Maritime Data 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9. e-Navigation Portrayal</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0. e-Navigation Usability</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1. e-Navigation Test Bed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2. Software Quality Assuranc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3:53:20Z</dcterms:modified>
  <cp:revision>42</cp:revision>
  <dc:subject/>
  <dc:title>Slide 1</dc:title>
</cp:coreProperties>
</file>