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7E9-3747-44DB-A678-2D6CD6C6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5F6-29F8-48CA-9CAA-66A68646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310-FA95-4A10-B179-0356AE1A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816-D0BA-4BEF-BDFF-3CA6BB65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0E6-EFFB-4216-A56C-FB64798C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F4D-5972-437A-9FE6-608FE75C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998-069D-44B1-AF06-E5D08146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290-E0D5-434F-9AE5-BF907E51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C3C-CDB9-4736-B3BE-EE5EB63E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B56-C681-4198-8FE9-0C132478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161-3843-4447-AC1D-98BB83D5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F5A-FD83-404E-8BFA-74F8D830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4C97-1939-4DD4-9361-82D8B597B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752" t="0" r="0" b="-2229"/>
          <a:stretch/>
        </p:blipFill>
        <p:spPr>
          <a:xfrm rot="18602400">
            <a:off x="2746800" y="1092600"/>
            <a:ext cx="3379680" cy="3299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6920" y="2133720"/>
            <a:ext cx="165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3645000"/>
            <a:ext cx="180000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98920" y="3284640"/>
            <a:ext cx="352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-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4720" y="5157720"/>
            <a:ext cx="2735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of the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5805360"/>
            <a:ext cx="360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al awareness in a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5878440"/>
            <a:ext cx="381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with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3440" y="4581360"/>
            <a:ext cx="2590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4510080"/>
            <a:ext cx="2087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T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5280" y="5229360"/>
            <a:ext cx="3529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utical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3440" y="3860640"/>
            <a:ext cx="3743280" cy="2016360"/>
          </a:xfrm>
          <a:prstGeom prst="ellipse">
            <a:avLst/>
          </a:prstGeom>
          <a:solidFill>
            <a:srgbClr val="c0c0c0">
              <a:alpha val="47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TS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, TOS, 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6" idx="1"/>
            <a:endCxn id="44" idx="1"/>
          </p:cNvCxnSpPr>
          <p:nvPr/>
        </p:nvCxnSpPr>
        <p:spPr>
          <a:xfrm flipH="1" rot="10800000">
            <a:off x="1042920" y="3607920"/>
            <a:ext cx="1656360" cy="248544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1"/>
            <a:endCxn id="44" idx="1"/>
          </p:cNvCxnSpPr>
          <p:nvPr/>
        </p:nvCxnSpPr>
        <p:spPr>
          <a:xfrm flipH="1" rot="10800000">
            <a:off x="1044360" y="3607920"/>
            <a:ext cx="1654560" cy="1801440"/>
          </a:xfrm>
          <a:prstGeom prst="bentConnector3">
            <a:avLst>
              <a:gd name="adj1" fmla="val -1399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" name=""/>
          <p:cNvCxnSpPr>
            <a:stCxn id="49" idx="1"/>
            <a:endCxn id="44" idx="1"/>
          </p:cNvCxnSpPr>
          <p:nvPr/>
        </p:nvCxnSpPr>
        <p:spPr>
          <a:xfrm flipH="1" rot="10800000">
            <a:off x="1042920" y="3608280"/>
            <a:ext cx="1656360" cy="115380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7" idx="3"/>
            <a:endCxn id="44" idx="3"/>
          </p:cNvCxnSpPr>
          <p:nvPr/>
        </p:nvCxnSpPr>
        <p:spPr>
          <a:xfrm flipH="1" flipV="1">
            <a:off x="6227640" y="3608280"/>
            <a:ext cx="2377080" cy="252216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0" idx="3"/>
            <a:endCxn id="44" idx="3"/>
          </p:cNvCxnSpPr>
          <p:nvPr/>
        </p:nvCxnSpPr>
        <p:spPr>
          <a:xfrm flipH="1" flipV="1">
            <a:off x="6227640" y="3608280"/>
            <a:ext cx="2377080" cy="1873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3"/>
            <a:endCxn id="44" idx="3"/>
          </p:cNvCxnSpPr>
          <p:nvPr/>
        </p:nvCxnSpPr>
        <p:spPr>
          <a:xfrm flipH="1" flipV="1">
            <a:off x="6227640" y="3608280"/>
            <a:ext cx="2377080" cy="1225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55640" y="6206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LO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700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2276640"/>
            <a:ext cx="128592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0560" y="33192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3440" y="16984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RAP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27664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180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V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5461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HIP OW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7800" y="2588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S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1440" y="1144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IR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I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61080" y="277956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EORO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26920" y="47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6920" y="540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826920" y="6093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8675280" y="547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8675280" y="6130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675280" y="4832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9810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907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AS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141300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1484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RD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SHE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2708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3:21:52Z</dcterms:created>
  <dc:creator>SonninenS</dc:creator>
  <dc:description/>
  <dc:language>en-US</dc:language>
  <cp:lastModifiedBy>SonninenS</cp:lastModifiedBy>
  <dcterms:modified xsi:type="dcterms:W3CDTF">2008-03-06T10:10:47Z</dcterms:modified>
  <cp:revision>17</cp:revision>
  <dc:subject/>
  <dc:title>Dia 1</dc:title>
</cp:coreProperties>
</file>