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321-1CC1-4544-AF67-E9D89CD6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5E5-47E5-4D57-95A2-873CB967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DFB-15AC-49B7-B493-0CBFF908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64F-5D57-4E9A-B5CD-9F45EBB6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531-5074-4F47-A933-7271C887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D36-7255-429E-A1E3-D7DFE706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D6A-DB11-42FF-A6F8-5A32CAB8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5AF-79E2-442A-A992-88EC1B7E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8A8-6D9F-4F20-906F-873028D0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346-75E2-454C-8567-862C541D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D7E-6B9D-4F4F-96B4-8B73B4F9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8EF-918D-491B-8E43-AC5E24A8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58B-1F82-4E67-85C0-8DF1BB615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11280" y="189000"/>
            <a:ext cx="7705800" cy="6335640"/>
            <a:chOff x="611280" y="189000"/>
            <a:chExt cx="7705800" cy="6335640"/>
          </a:xfrm>
        </p:grpSpPr>
        <p:grpSp>
          <p:nvGrpSpPr>
            <p:cNvPr id="42" name=""/>
            <p:cNvGrpSpPr/>
            <p:nvPr/>
          </p:nvGrpSpPr>
          <p:grpSpPr>
            <a:xfrm>
              <a:off x="611280" y="189000"/>
              <a:ext cx="7705800" cy="6335640"/>
              <a:chOff x="611280" y="189000"/>
              <a:chExt cx="7705800" cy="63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684360" y="5516640"/>
                <a:ext cx="7632720" cy="1008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ims of VT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11280" y="189000"/>
                <a:ext cx="7559640" cy="4535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3236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06120" y="4221000"/>
                <a:ext cx="92736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32360" y="45799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5640" y="3357720"/>
                <a:ext cx="1152360" cy="57600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08000" y="148428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350160" y="189000"/>
                <a:ext cx="188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TM frame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68360" y="1339920"/>
                <a:ext cx="0" cy="230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268360" y="1339920"/>
                <a:ext cx="417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08360" y="134136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427280" y="4797360"/>
                <a:ext cx="962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56000" y="3932280"/>
                <a:ext cx="360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564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29272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2728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0072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7236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tection o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rine environ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73440" y="4226040"/>
                <a:ext cx="107244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eas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19240" y="479736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7672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76720" y="457992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443640" y="1339920"/>
                <a:ext cx="0" cy="237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08000" y="3645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908000" y="2637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98764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8472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9600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443640" y="1484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443640" y="2492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443640" y="3716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16360" y="371628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916360" y="155592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76720" y="198756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635280" y="242100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95640" y="2852640"/>
                <a:ext cx="1511280" cy="865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1928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6400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6436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92360" y="5229360"/>
                <a:ext cx="554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7672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3236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0836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1128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64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5640" y="234936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77080" y="3429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1964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7080" y="2205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708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11600" y="2421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51240" y="1989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90880" y="155736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70520" y="292428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164720" y="18900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68360" y="404640"/>
            <a:ext cx="8569800" cy="5913720"/>
            <a:chOff x="468360" y="404640"/>
            <a:chExt cx="8569800" cy="5913720"/>
          </a:xfrm>
        </p:grpSpPr>
        <p:sp>
          <p:nvSpPr>
            <p:cNvPr id="99" name=""/>
            <p:cNvSpPr/>
            <p:nvPr/>
          </p:nvSpPr>
          <p:spPr>
            <a:xfrm>
              <a:off x="468360" y="404640"/>
              <a:ext cx="8350200" cy="324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920" y="1341360"/>
              <a:ext cx="2232360" cy="20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ips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64000" y="1341360"/>
              <a:ext cx="2303280" cy="20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6160" y="6206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T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8360" y="3716280"/>
              <a:ext cx="8350200" cy="14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-Navig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72360" y="1341360"/>
              <a:ext cx="2232000" cy="20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45440" y="551664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rran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59280" y="2133360"/>
              <a:ext cx="504360" cy="431640"/>
              <a:chOff x="3059280" y="2133360"/>
              <a:chExt cx="504360" cy="431640"/>
            </a:xfrm>
          </p:grpSpPr>
          <p:sp>
            <p:nvSpPr>
              <p:cNvPr id="107" name=""/>
              <p:cNvSpPr/>
              <p:nvPr/>
            </p:nvSpPr>
            <p:spPr>
              <a:xfrm rot="16200000">
                <a:off x="3095640" y="2097000"/>
                <a:ext cx="431640" cy="504360"/>
              </a:xfrm>
              <a:prstGeom prst="upDownArrow">
                <a:avLst>
                  <a:gd name="adj1" fmla="val 50000"/>
                  <a:gd name="adj2" fmla="val 2326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00000">
                <a:off x="3239280" y="2096280"/>
                <a:ext cx="144000" cy="504360"/>
              </a:xfrm>
              <a:prstGeom prst="upDownArrow">
                <a:avLst>
                  <a:gd name="adj1" fmla="val 50000"/>
                  <a:gd name="adj2" fmla="val 6972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867280" y="2133360"/>
              <a:ext cx="504720" cy="431640"/>
              <a:chOff x="5867280" y="2133360"/>
              <a:chExt cx="504720" cy="431640"/>
            </a:xfrm>
          </p:grpSpPr>
          <p:sp>
            <p:nvSpPr>
              <p:cNvPr id="110" name=""/>
              <p:cNvSpPr/>
              <p:nvPr/>
            </p:nvSpPr>
            <p:spPr>
              <a:xfrm rot="16200000">
                <a:off x="5903640" y="2096640"/>
                <a:ext cx="431640" cy="504720"/>
              </a:xfrm>
              <a:prstGeom prst="upDownArrow">
                <a:avLst>
                  <a:gd name="adj1" fmla="val 50000"/>
                  <a:gd name="adj2" fmla="val 23278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6200000">
                <a:off x="6047640" y="2096280"/>
                <a:ext cx="144000" cy="504720"/>
              </a:xfrm>
              <a:prstGeom prst="upDownArrow">
                <a:avLst>
                  <a:gd name="adj1" fmla="val 50000"/>
                  <a:gd name="adj2" fmla="val 6977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rot="16200000">
              <a:off x="575280" y="5480640"/>
              <a:ext cx="432000" cy="3603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698400" y="5933880"/>
              <a:ext cx="185760" cy="360360"/>
            </a:xfrm>
            <a:prstGeom prst="upDownArrow">
              <a:avLst>
                <a:gd name="adj1" fmla="val 50000"/>
                <a:gd name="adj2" fmla="val 386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5800" y="5950080"/>
              <a:ext cx="198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measure/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964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3280" y="3429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8036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92360" y="5445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8680" y="5516640"/>
              <a:ext cx="51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support VTM through information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640" y="3787920"/>
              <a:ext cx="7848720" cy="86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000" y="4005360"/>
              <a:ext cx="1584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11280" y="4221000"/>
              <a:ext cx="29527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management proc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9640" y="4005360"/>
              <a:ext cx="122400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0720" y="4221000"/>
              <a:ext cx="208908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ing instru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47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11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4836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95008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28320" y="5877000"/>
              <a:ext cx="41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input from stakeholders to allow 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812360" y="40464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IALA VTS/WG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55640" y="189000"/>
            <a:ext cx="8064360" cy="6408720"/>
            <a:chOff x="755640" y="189000"/>
            <a:chExt cx="8064360" cy="6408720"/>
          </a:xfrm>
        </p:grpSpPr>
        <p:grpSp>
          <p:nvGrpSpPr>
            <p:cNvPr id="132" name=""/>
            <p:cNvGrpSpPr/>
            <p:nvPr/>
          </p:nvGrpSpPr>
          <p:grpSpPr>
            <a:xfrm>
              <a:off x="755640" y="189000"/>
              <a:ext cx="8064360" cy="6408720"/>
              <a:chOff x="755640" y="189000"/>
              <a:chExt cx="8064360" cy="6408720"/>
            </a:xfrm>
          </p:grpSpPr>
          <p:sp>
            <p:nvSpPr>
              <p:cNvPr id="133" name=""/>
              <p:cNvSpPr/>
              <p:nvPr/>
            </p:nvSpPr>
            <p:spPr>
              <a:xfrm>
                <a:off x="755640" y="189000"/>
                <a:ext cx="266400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58920" y="549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ritime do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68360" y="9810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31640" y="17733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72000" y="1628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2000" y="2997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9440" y="227664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9440" y="357336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68360" y="2349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92360" y="2565360"/>
                <a:ext cx="1150920" cy="115092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50040" y="2924280"/>
                <a:ext cx="85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 VTM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1331640" y="31417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68360" y="3716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58920" y="4005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70920" y="189000"/>
                <a:ext cx="237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59280" y="4149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3564000" y="765000"/>
                <a:ext cx="0" cy="338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8360" y="189000"/>
                <a:ext cx="511164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72000" y="189000"/>
                <a:ext cx="24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tegoriz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40360" y="549360"/>
                <a:ext cx="180000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2000" y="112536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TM ai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12000" y="162864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2000" y="213372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2000" y="263700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 intera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32360" y="1268280"/>
                <a:ext cx="287280" cy="28908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32360" y="1773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32360" y="227664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32360" y="2781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219280" y="1413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219280" y="1916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219280" y="2421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5219280" y="2924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76720" y="981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76720" y="1557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76720" y="20606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76720" y="2565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27640" y="3357720"/>
                <a:ext cx="1295280" cy="1008000"/>
              </a:xfrm>
              <a:prstGeom prst="flowChartMulti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76720" y="306864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12720" y="3357720"/>
                <a:ext cx="2614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tection of marine environ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5724000" y="35002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79640" y="3716280"/>
                <a:ext cx="5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5508720" y="386064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435280" y="4076640"/>
                <a:ext cx="64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84720" y="3645000"/>
                <a:ext cx="1152360" cy="792000"/>
              </a:xfrm>
              <a:prstGeom prst="flowChart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64000" y="76500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55640" y="4797360"/>
                <a:ext cx="8064360" cy="180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40360" y="5084640"/>
                <a:ext cx="172872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40360" y="5877000"/>
                <a:ext cx="20174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unctional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76720" y="558972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55280" y="4797360"/>
                <a:ext cx="2445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arrang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76720" y="4292640"/>
                <a:ext cx="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692360" y="1197000"/>
                <a:ext cx="1150920" cy="115236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05680" y="1413000"/>
                <a:ext cx="1078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era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th mariti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ffic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32000" y="5805360"/>
                <a:ext cx="20876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iteria and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r 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59640" y="5805360"/>
                <a:ext cx="1728720" cy="576360"/>
              </a:xfrm>
              <a:prstGeom prst="leftRightArrow">
                <a:avLst>
                  <a:gd name="adj1" fmla="val 50000"/>
                  <a:gd name="adj2" fmla="val 5970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ang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56360" y="609300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3280" y="5084640"/>
                <a:ext cx="1944720" cy="5050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ser ne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11280" y="55897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19640" y="60930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780000" y="5300280"/>
                <a:ext cx="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80000" y="5300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7440" y="476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81800" y="260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9080" y="486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7812360" y="638172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0:30:31Z</dcterms:created>
  <dc:creator>WG4</dc:creator>
  <dc:description/>
  <dc:language>en-US</dc:language>
  <cp:lastModifiedBy>hbr</cp:lastModifiedBy>
  <dcterms:modified xsi:type="dcterms:W3CDTF">2009-03-05T16:05:22Z</dcterms:modified>
  <cp:revision>25</cp:revision>
  <dc:subject/>
  <dc:title>VTM concept</dc:title>
</cp:coreProperties>
</file>