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B6D0-DDEA-471E-96E2-34AE187D18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1294-2908-4415-B75A-CEA626C4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A02E-6609-4F61-8EA9-41417041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4C87-14EA-4855-A7C1-D1802F6CE1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C9C8B-5A4E-4B87-8F90-54E20BB9B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B6310-74D9-4CB4-8DD2-2563CD9D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64684-2122-48DA-BE0D-6EACA76B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102B3-9F1B-48CD-99E4-FED561FC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8E20C-732E-4DE9-BFFB-8A53C0F1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0A44F-B377-4CBC-AF90-E60E960D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1BAFE-3A89-45F2-96FE-4FB0BD1D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D35A-3E48-4139-9C2B-DB07D23B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A7CA5-1820-4AC1-80EB-724682C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8B7A9-7CCF-4FF3-B87A-9676DB4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94D4F-CFB9-4E81-B8F7-9075DB09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4C4A0-010A-401D-9BEE-FB1C3DC6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93605-FCA6-48D0-AEC9-3D55C7824A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99F2-A277-4A0F-A6F1-1D29417E84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B312-2695-460E-8BF2-751C2E20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2B81-11C3-4687-8EB3-F6B29273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D679-090C-4C84-ABFD-19F977A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839E-2896-4A7D-81C5-DBFC1F9E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26D1F-831A-48F9-981A-F49E7DC9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7CAA-DBB0-4373-8FA2-27221172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1174-A6FF-4FF6-B08B-FF2C0F2D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E999-B09C-4BA9-B351-E195B4EF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447C-96B4-41AD-AB02-C3F5B6C1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3474-3DC9-4E10-8B95-33F118F2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AE46-4CB8-40D0-BBDB-8134E3A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BF96-AE62-4922-88E7-7E33F1B1F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C73A0-CEAC-48AF-AFB2-2CAFD5A85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11F40-7E22-4F91-849B-851178F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6D39B-8EC0-49EE-B1BA-1DD69F5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7FB6-79B5-46BE-8670-2C0F1D41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2C88A-F3B4-4104-B93F-DD9CBDB8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14A07-D802-4EA5-A076-641492FB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94154-B04D-480E-B0B4-AC366D70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E5504-E355-4A69-98FA-B704E50F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D9E2F-2970-4BEA-AF21-39161FE9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62D6E-21CB-47A9-A04E-6CDCA445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2CA0D-B287-4509-B205-7676EFC1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EFB7D-845F-41AD-A51D-F996560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36A95-1E0B-4510-87E9-6037EEAAA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1A44E-CD84-4813-8BBC-B298B85EE8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F86B-EF89-45A2-AC67-FBFA5CAF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A270D-D985-4262-9A0D-5DC773E5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1E90E-90CF-44AE-B40A-F286BE8A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3C5A27-A888-4486-9D30-FD1C3FC8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E3A94D-296D-4FD3-AE9A-307ADAF3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47ED7-8291-4BDF-87ED-FF323CD3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43612-7EE8-4B9D-A191-DE64A3DE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7574BB-2DE3-432C-9B15-59188960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1841F-FA07-4E7B-A229-3DFAD3FA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EF536-0B1E-4F56-AF3C-28BC59C4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9F9579-664F-422D-9157-8A466A17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C2A7-7A72-4D15-A58E-A8BC6F3D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A9B72-DB93-46C2-84D6-3BEDCFB448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1B44-324C-4434-94F1-CC250F4025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A48EB-B6E4-46A7-96C0-5D74F73D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05323-0284-498D-AB2C-69D8D580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0A4E-6367-45E3-973C-AD9B663D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3100-02D4-4294-B4A6-82800F73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3242-96EB-4A25-A465-494372EF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2548-EF2B-4014-A6FA-7E27A5AB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1EF2-92F6-497E-9DDE-A4905C12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8B27-0998-427E-A7FD-8921F240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C638-0AE0-46DF-9DDB-D965C5ED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7FCF9-D66C-463D-9FD8-B7FA3AE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CCF2-2414-4D24-8CD9-CDA88A6C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CD09-B8C5-4AD8-9946-890292542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7FFA0-88C4-4837-B66C-9FD5AA618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415DA-9F71-41B6-B59E-2ACE19C9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73ADB-1B2E-4062-A9DE-548E87E7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0118E-3FB6-4C4E-8931-8FECCC1B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BE688-E93E-424A-9943-081E3473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8D6EF-6FFB-47D7-9B17-37ECA3E2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17454-F67C-4E3C-831E-29826EFB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8A76-EBD6-426C-A885-1964BAA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0D687-2AD0-4FAB-9B7D-89AC02E6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91E8D-6F9E-4F49-B6A9-6085EA78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9DA55-D4F3-4FFA-B83C-31FA6AE4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AE06E-12AB-4ED1-BD55-7516C287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91AE8-1E0B-4827-8DCE-3DD75BC1B2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BFD844-A758-4062-A724-CA206FAD3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D3351C-7F6E-4433-9A15-0DBB8E4E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AA4BB8-C9EB-4A5E-A5C6-57B40BB2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B92FC2-1391-458A-B267-971951F8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A063B3-76B8-43C1-9F86-D14C7A95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6B40-5D6D-4112-A104-18D1A4FE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829787-2E7F-45C3-9738-0EE7E00F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732697-3A0B-4941-AF16-2B60BFBE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F7C34D-FC15-4CCF-93B7-0317459C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6BA9C6-FC17-479C-B566-6AD80433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AFA62A-82BC-48F7-80D0-F863626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A3268E-E61D-4036-8927-9AC753E0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C6B01F-62A9-499E-84CC-CB2FE4745A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FB28-E3D8-47A0-AFC5-CB2DF26DCE68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Afbeelding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" name="Afbeelding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6"/>
          <p:cNvSpPr/>
          <p:nvPr/>
        </p:nvSpPr>
        <p:spPr>
          <a:xfrm>
            <a:off x="4678200" y="0"/>
            <a:ext cx="7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8FB9-54AC-4CE3-916A-594DCA36176D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C34C-90F4-4547-84C4-FFD375F49806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4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"/>
          <p:cNvPicPr/>
          <p:nvPr/>
        </p:nvPicPr>
        <p:blipFill>
          <a:blip r:embed="rId3"/>
          <a:stretch/>
        </p:blipFill>
        <p:spPr>
          <a:xfrm>
            <a:off x="2411280" y="58680"/>
            <a:ext cx="792360" cy="62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4"/>
          <a:stretch/>
        </p:blipFill>
        <p:spPr>
          <a:xfrm>
            <a:off x="324000" y="57240"/>
            <a:ext cx="792000" cy="63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F439-E41C-4718-8C4F-68402BE777D6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89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3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4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0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327D-8B4D-4A44-BC4F-D2F3013224D8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3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9A77-ABC0-4A10-A698-9C49810C7AFA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8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7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88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2042-558B-45CA-AEF0-858EFCD632CD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330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34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3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AD6-B8A5-47A8-A098-2547CE5A5F1F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mailto:Arne.theil@ptno.nl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5905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Afbeelding 5" descr="vts.jpg"/>
          <p:cNvPicPr/>
          <p:nvPr/>
        </p:nvPicPr>
        <p:blipFill>
          <a:blip r:embed="rId1"/>
          <a:stretch/>
        </p:blipFill>
        <p:spPr>
          <a:xfrm>
            <a:off x="5076720" y="2637000"/>
            <a:ext cx="3275280" cy="2016000"/>
          </a:xfrm>
          <a:prstGeom prst="rect">
            <a:avLst/>
          </a:prstGeom>
          <a:ln w="0">
            <a:noFill/>
          </a:ln>
        </p:spPr>
      </p:pic>
      <p:pic>
        <p:nvPicPr>
          <p:cNvPr id="380" name="Afbeelding 6" descr="southamptonvts2.jpg"/>
          <p:cNvPicPr/>
          <p:nvPr/>
        </p:nvPicPr>
        <p:blipFill>
          <a:blip r:embed="rId2"/>
          <a:stretch/>
        </p:blipFill>
        <p:spPr>
          <a:xfrm>
            <a:off x="539640" y="4076640"/>
            <a:ext cx="4295880" cy="2333520"/>
          </a:xfrm>
          <a:prstGeom prst="rect">
            <a:avLst/>
          </a:prstGeom>
          <a:ln w="0">
            <a:noFill/>
          </a:ln>
        </p:spPr>
      </p:pic>
      <p:sp>
        <p:nvSpPr>
          <p:cNvPr id="381" name="Tekstvak 7"/>
          <p:cNvSpPr/>
          <p:nvPr/>
        </p:nvSpPr>
        <p:spPr>
          <a:xfrm>
            <a:off x="996480" y="242100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e Th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c9c9e"/>
                </a:solidFill>
                <a:uFillTx/>
                <a:latin typeface="Arial"/>
                <a:hlinkClick r:id="rId3"/>
              </a:rPr>
              <a:t>arne.theil@tn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1-88-8664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6440" y="1412640"/>
            <a:ext cx="82076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03280" y="3212640"/>
            <a:ext cx="6624720" cy="22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h lis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O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87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september 2010: IALA → TNO: ‘Can TNO upgrade CARPET v2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ebruari 2011: TNO → IALA: ‘Can IALA support the business case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januari 2012: TNO presentation during IALA subcommittee. Prior to this meeting, TNO has sent-out wish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xtensions must the new version of CARPET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development of the new version going to be finan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264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4816440" y="189000"/>
            <a:ext cx="1828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1042920" y="2276640"/>
            <a:ext cx="43344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6300720" y="3500280"/>
            <a:ext cx="432000" cy="4334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1835280" y="4797360"/>
            <a:ext cx="43308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3708360" y="2781360"/>
            <a:ext cx="43200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9"/>
          <p:cNvSpPr/>
          <p:nvPr/>
        </p:nvSpPr>
        <p:spPr>
          <a:xfrm>
            <a:off x="4572000" y="4581360"/>
            <a:ext cx="43164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sosceles Triangle 10"/>
          <p:cNvSpPr/>
          <p:nvPr/>
        </p:nvSpPr>
        <p:spPr>
          <a:xfrm>
            <a:off x="1763640" y="2637000"/>
            <a:ext cx="432000" cy="4316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sosceles Triangle 11"/>
          <p:cNvSpPr/>
          <p:nvPr/>
        </p:nvSpPr>
        <p:spPr>
          <a:xfrm>
            <a:off x="3851280" y="2924280"/>
            <a:ext cx="433440" cy="4334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635280" y="306864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443640" y="378936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7667640" y="1989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-Point Star 19"/>
          <p:cNvSpPr/>
          <p:nvPr/>
        </p:nvSpPr>
        <p:spPr>
          <a:xfrm>
            <a:off x="5364000" y="213372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6" y="192221"/>
                </a:lnTo>
                <a:lnTo>
                  <a:pt x="503236" y="192219"/>
                </a:lnTo>
                <a:lnTo>
                  <a:pt x="347727" y="311017"/>
                </a:lnTo>
                <a:lnTo>
                  <a:pt x="407127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0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-Point Star 20"/>
          <p:cNvSpPr/>
          <p:nvPr/>
        </p:nvSpPr>
        <p:spPr>
          <a:xfrm>
            <a:off x="6156360" y="3645000"/>
            <a:ext cx="503280" cy="5047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-Point Star 21"/>
          <p:cNvSpPr/>
          <p:nvPr/>
        </p:nvSpPr>
        <p:spPr>
          <a:xfrm>
            <a:off x="5508720" y="544500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-Point Star 22"/>
          <p:cNvSpPr/>
          <p:nvPr/>
        </p:nvSpPr>
        <p:spPr>
          <a:xfrm>
            <a:off x="2484360" y="400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7">
                <a:moveTo>
                  <a:pt x="1" y="192219"/>
                </a:moveTo>
                <a:lnTo>
                  <a:pt x="192221" y="192220"/>
                </a:lnTo>
                <a:lnTo>
                  <a:pt x="251619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7" y="311016"/>
                </a:lnTo>
                <a:lnTo>
                  <a:pt x="407127" y="503235"/>
                </a:lnTo>
                <a:lnTo>
                  <a:pt x="251619" y="384436"/>
                </a:lnTo>
                <a:lnTo>
                  <a:pt x="96110" y="503235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5-Point Star 23"/>
          <p:cNvSpPr/>
          <p:nvPr/>
        </p:nvSpPr>
        <p:spPr>
          <a:xfrm>
            <a:off x="3492360" y="256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8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7" y="192221"/>
                </a:lnTo>
                <a:lnTo>
                  <a:pt x="503237" y="192219"/>
                </a:lnTo>
                <a:lnTo>
                  <a:pt x="347727" y="311017"/>
                </a:lnTo>
                <a:lnTo>
                  <a:pt x="407128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1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2152080" y="616572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greement as well as disagre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788000" y="260280"/>
            <a:ext cx="18000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95280" y="1628640"/>
          <a:ext cx="8280360" cy="462276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latest generation solid state coherent VTS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F/RF/pulslength/pulse compression ag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Doppler filter coefficients, non standard Doppler filt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Terma’s frequency 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ing tool, modelling of a radar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and other receiver characteristics (e.g. lin/log, limited number of b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tool’, command 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/fail verdict that relates to IAL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ide-lo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borne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61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BAFC-E53C-42E6-A64B-E0DF341D1389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1628640"/>
          <a:ext cx="8280360" cy="268308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sea clutter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xtensive specification of loss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velocity aver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NO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2199960"/>
            <a:ext cx="70581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of the latest generation solid state coherent VTS rad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: complex waveform (RF/PRF/pulse length agility), post-detection binary integration, extensive loss factor specification, (partially) encrypted settings files, feedback of OEMs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point-like target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dvanced modern GUI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C1FE-9EC7-46C6-B5F9-E5B5D38754E9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6337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2199960"/>
            <a:ext cx="8136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w CARPET-VTS will be able to assess the performance of the latest generation coherent VTS ra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the modernisation of CARPET, future steps, such as the analysis of radar networks can be taken mor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16mScenario7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5:11:03Z</dcterms:created>
  <dc:creator/>
  <dc:description/>
  <dc:language>en-US</dc:language>
  <cp:lastModifiedBy/>
  <dcterms:modified xsi:type="dcterms:W3CDTF">2013-09-15T11:57:33Z</dcterms:modified>
  <cp:revision>77</cp:revision>
  <dc:subject>Powerpoint Wizzard</dc:subject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M Bouman </vt:lpwstr>
  </property>
  <property fmtid="{D5CDD505-2E9C-101B-9397-08002B2CF9AE}" pid="3" name="Color">
    <vt:lpwstr>True</vt:lpwstr>
  </property>
  <property fmtid="{D5CDD505-2E9C-101B-9397-08002B2CF9AE}" pid="4" name="CreationBy">
    <vt:lpwstr>boumanm</vt:lpwstr>
  </property>
  <property fmtid="{D5CDD505-2E9C-101B-9397-08002B2CF9AE}" pid="5" name="CreationDate">
    <vt:lpwstr>10-1-2011 15:59:00</vt:lpwstr>
  </property>
  <property fmtid="{D5CDD505-2E9C-101B-9397-08002B2CF9AE}" pid="6" name="DateText">
    <vt:lpwstr>10 januari 2011</vt:lpwstr>
  </property>
  <property fmtid="{D5CDD505-2E9C-101B-9397-08002B2CF9AE}" pid="7" name="Department">
    <vt:lpwstr>5299</vt:lpwstr>
  </property>
  <property fmtid="{D5CDD505-2E9C-101B-9397-08002B2CF9AE}" pid="8" name="FavoriteLink1Image">
    <vt:lpwstr>TNOdummytijdsbalkbeeld001.jpg</vt:lpwstr>
  </property>
  <property fmtid="{D5CDD505-2E9C-101B-9397-08002B2CF9AE}" pid="9" name="FavoriteLink1Index">
    <vt:lpwstr>1</vt:lpwstr>
  </property>
  <property fmtid="{D5CDD505-2E9C-101B-9397-08002B2CF9AE}" pid="10" name="FavoriteLink2Image">
    <vt:lpwstr>TNOdummytijdsbalkbeeld002.jpg</vt:lpwstr>
  </property>
  <property fmtid="{D5CDD505-2E9C-101B-9397-08002B2CF9AE}" pid="11" name="FavoriteLink2Index">
    <vt:lpwstr>1</vt:lpwstr>
  </property>
  <property fmtid="{D5CDD505-2E9C-101B-9397-08002B2CF9AE}" pid="12" name="Grammar">
    <vt:lpwstr>1</vt:lpwstr>
  </property>
  <property fmtid="{D5CDD505-2E9C-101B-9397-08002B2CF9AE}" pid="13" name="PresentationDate">
    <vt:lpwstr>10-9-2013 13:44:43</vt:lpwstr>
  </property>
  <property fmtid="{D5CDD505-2E9C-101B-9397-08002B2CF9AE}" pid="14" name="ShowDate">
    <vt:lpwstr>True</vt:lpwstr>
  </property>
  <property fmtid="{D5CDD505-2E9C-101B-9397-08002B2CF9AE}" pid="15" name="ShowPages">
    <vt:lpwstr>True</vt:lpwstr>
  </property>
  <property fmtid="{D5CDD505-2E9C-101B-9397-08002B2CF9AE}" pid="16" name="SubTitle">
    <vt:lpwstr>Powerpoint Wizzard</vt:lpwstr>
  </property>
  <property fmtid="{D5CDD505-2E9C-101B-9397-08002B2CF9AE}" pid="17" name="Title">
    <vt:lpwstr>TNO Nieuwe huisstijl</vt:lpwstr>
  </property>
</Properties>
</file>