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972800" cy="73152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716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678040" y="525600"/>
            <a:ext cx="394200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39480" y="3328560"/>
            <a:ext cx="6816600" cy="3156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DEDECCF-5776-475D-9439-34849250B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055"/>
          <p:cNvSpPr/>
          <p:nvPr/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E2B3B0-DF69-4AC5-8EEC-ED8E5E6AC4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676600" y="525600"/>
            <a:ext cx="3943440" cy="2628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238400" y="3328560"/>
            <a:ext cx="681984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A79-EDD2-48C1-9CEE-994DE209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7BE9-12A5-4E83-94FF-15EAB3F4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36B-8723-4BC8-B94C-E8BBF7FA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F62-6731-48D8-92A0-2E05EEAC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5CAF-03CE-411D-A6D9-5C065C9D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59E-A401-45BF-9396-C384FE1C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E997-3CC3-4749-8DC1-2FB87A1C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BDC-B4F6-4FF0-A375-466C9866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293760"/>
            <a:ext cx="9874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1BF-E0C2-40F7-8941-78ADBB57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CED-EB58-413F-8A4B-019D703A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4A7-EF4E-45EB-88C8-310EFCB2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C06-12CA-47E4-A300-F6B2AD1E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78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50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2606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6780240"/>
            <a:ext cx="34732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D501-D8E6-43D5-A68D-B518C9430093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733840" y="442800"/>
            <a:ext cx="720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1085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GOVERNMENT OF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MINISTRY OF PORTS, SHIPPING &amp; WATER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DIRECTORATE GENERAL OF  LIGHTHOUSES &amp; LIGHTSHI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282" t="0" r="66511" b="47697"/>
          <a:stretch/>
        </p:blipFill>
        <p:spPr>
          <a:xfrm>
            <a:off x="4114800" y="2438280"/>
            <a:ext cx="1905120" cy="2433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099240" y="57150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Aids to Navigation- An Up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9721800" cy="594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New 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IVEF Compliant VTS Software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operational in VTS – Gulf of Kutc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VTS- Gulf of Kutch software was upgraded with update features and with IVEF format and became operational with all its features in the first quarter this year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38000" y="1706400"/>
            <a:ext cx="285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30240" y="2090880"/>
            <a:ext cx="934740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80880" y="990720"/>
            <a:ext cx="10599840" cy="75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RTCM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 (Radio Technical Commission for Maritime Services) Standards for </a:t>
            </a: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NavIC in DGNSS application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officially released on RTCM website on April 28, 2020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Indian Regional Navigation Satellite System (IRNSS) recog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he International Maritime Organization (IMO) has recognised the Indian Regional Navigation Satellite System (IRNSS) as a component of the World-Wide Radio Navigation System (WWRNS) for operation in the Indian Ocea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80880" y="990720"/>
            <a:ext cx="10287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NavIC (IRNSS) is an independent regional navigation satellite system developed by India to provide accurate position information service to assist in the navigation of ships in Indian Ocean wa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ing its 102nd session held virtually (4 to 11 November 2020), the 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Maritime Safety Committee (MSC) of IMO recognized the Indian Regional Navigation Satellite System (IRNSS) as a component of  the  World-wide  radio navigation 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33520" y="533520"/>
            <a:ext cx="1013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0070c0"/>
                </a:solidFill>
                <a:latin typeface="Arial"/>
                <a:ea typeface="Arial"/>
              </a:rPr>
              <a:t>Establishment of new Lighthouse at Tajpur and Kuthenku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For easy identification of landmark and to provide seamless coverage of lighthouse along the Indian Coast two new Lighthouses at Tajpur and Kuthenkuli have been inaugurated this ye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9966240" cy="6259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Aids to marine Navigation Act 2020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ids to marine Navigation 2020 superseding Lighthouse Act 1927 has been drafted into Bill and submitted for approval in Parliament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1905120" y="3048120"/>
            <a:ext cx="701028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HANK  YOU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6" descr="C LH3"/>
          <p:cNvPicPr/>
          <p:nvPr/>
        </p:nvPicPr>
        <p:blipFill>
          <a:blip r:embed="rId1"/>
          <a:stretch/>
        </p:blipFill>
        <p:spPr>
          <a:xfrm>
            <a:off x="9785520" y="0"/>
            <a:ext cx="1187280" cy="130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4:43:41Z</dcterms:created>
  <dc:creator>abc</dc:creator>
  <dc:description/>
  <dc:language>en-US</dc:language>
  <cp:lastModifiedBy>ACER-PC</cp:lastModifiedBy>
  <cp:lastPrinted>2020-12-08T10:41:46Z</cp:lastPrinted>
  <dcterms:modified xsi:type="dcterms:W3CDTF">2020-12-08T10:46:04Z</dcterms:modified>
  <cp:revision>284</cp:revision>
  <dc:subject/>
  <dc:title>No Slide Title</dc:title>
</cp:coreProperties>
</file>