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972800" cy="73152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67160" y="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678040" y="525600"/>
            <a:ext cx="3942000" cy="26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39480" y="3328560"/>
            <a:ext cx="6816600" cy="3156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66108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67160" y="666108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53BBC2C-ED49-4D55-B3B3-7C2F94063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055"/>
          <p:cNvSpPr/>
          <p:nvPr/>
        </p:nvSpPr>
        <p:spPr>
          <a:xfrm>
            <a:off x="5267160" y="6661080"/>
            <a:ext cx="40291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079E352-1FBA-44B9-9D30-C71DEED5E3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2676600" y="525600"/>
            <a:ext cx="3943440" cy="262872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238400" y="3328560"/>
            <a:ext cx="681984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9900-B8A5-47FF-8A6B-611A912A8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987408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228200"/>
            <a:ext cx="987408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9477-25CC-499F-A54D-63BAD6FC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DFC2-9C96-4CE3-98B4-E144DFE8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7064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7064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2282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2282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2282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8C37-AA8B-48E8-9A91-5899A985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706400"/>
            <a:ext cx="9874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71BD-B2D4-4C8A-9C66-C7AB0BF3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987408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8C4A-FC66-449F-90FB-346571A6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7D63-BE9F-43D1-88A6-3FC6D116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0E15-7F17-40FD-9435-B491F48E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293760"/>
            <a:ext cx="987408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3A1B-CC41-4E88-A894-C2569973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DD10-7359-4FF4-9B11-9FFC7DD5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F511-17BF-412A-AE65-8C1C93D6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228200"/>
            <a:ext cx="987408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9EA4-61B8-48DE-9225-CE6FD7E0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706400"/>
            <a:ext cx="987408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47800" indent="-325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305000" indent="-2602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827360" indent="-2606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6780240"/>
            <a:ext cx="2558880" cy="38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6780240"/>
            <a:ext cx="3473280" cy="38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6780240"/>
            <a:ext cx="2558880" cy="38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F8B9-2FD7-4F73-96FE-426E2F63BA99}" type="slidenum">
              <a:rPr b="0" lang="en-US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2733840" y="442800"/>
            <a:ext cx="720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10850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GOVERNMENT OF I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MINISTRY OF PORTS, SHIPPING &amp; WATER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DIRECTORATE GENERAL OF  LIGHTHOUSES &amp; LIGHTSHIP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1282" t="0" r="66511" b="47697"/>
          <a:stretch/>
        </p:blipFill>
        <p:spPr>
          <a:xfrm>
            <a:off x="4114800" y="2438280"/>
            <a:ext cx="1905120" cy="24336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3099240" y="571500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Aids to Navigation- An Upd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9721800" cy="594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just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New </a:t>
            </a: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IVEF Compliant VTS Software 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operational in VTS – Gulf of Kutch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VTS- Gulf of Kutch software was upgraded with update features and with IVEF format and became operational with all its features in the first quarter this year.</a:t>
            </a:r>
            <a:br>
              <a:rPr sz="5000"/>
            </a:b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138000" y="1706400"/>
            <a:ext cx="28584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930240" y="2090880"/>
            <a:ext cx="9347400" cy="14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380880" y="990720"/>
            <a:ext cx="10599840" cy="75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RTCM</a:t>
            </a: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 (Radio Technical Commission for Maritime Services) Standards for </a:t>
            </a:r>
            <a:r>
              <a:rPr b="1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NavIC in DGNSS application</a:t>
            </a: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,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 officially released on RTCM website on April 28, 2020</a:t>
            </a: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Arial"/>
              </a:rPr>
              <a:t>Indian Regional Navigation Satellite System (IRNSS) recogn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The International Maritime Organization (IMO) has recognised the Indian Regional Navigation Satellite System (IRNSS) as a component of the World-Wide Radio Navigation System (WWRNS) for operation in the Indian Ocean Reg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380880" y="990720"/>
            <a:ext cx="102870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  <a:ea typeface="Arial"/>
              </a:rPr>
              <a:t>NavIC (IRNSS) is an independent regional navigation satellite system developed by India to provide accurate position information service to assist in the navigation of ships in Indian Ocean wat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During its 102nd session held virtually (4 to 11 November 2020), the  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Maritime Safety Committee (MSC) of IMO recognized the Indian Regional Navigation Satellite System (IRNSS) as a component of  the  World-wide  radio navigation 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533520" y="533520"/>
            <a:ext cx="10134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0070c0"/>
                </a:solidFill>
                <a:latin typeface="Arial"/>
                <a:ea typeface="Arial"/>
              </a:rPr>
              <a:t>Establishment of new Lighthouse at Tajpur and Kuthenku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For easy identification of landmark and to provide seamless coverage of lighthouse along the Indian Coast two new Lighthouses at Tajpur and Kuthenkuli have been inaugurated this yea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9966240" cy="62593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just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Aids to marine Navigation Act 2020</a:t>
            </a: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Aids to marine Navigation 2020 superseding Lighthouse Act 1927 has been drafted into Bill and submitted for approval in Parliament.</a:t>
            </a:r>
            <a:br>
              <a:rPr sz="5000"/>
            </a:b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5"/>
          <p:cNvSpPr txBox="1"/>
          <p:nvPr/>
        </p:nvSpPr>
        <p:spPr>
          <a:xfrm>
            <a:off x="1905120" y="3048120"/>
            <a:ext cx="7010280" cy="2743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THANK  YOU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pic>
        <p:nvPicPr>
          <p:cNvPr id="60" name="Picture 6" descr="C LH3"/>
          <p:cNvPicPr/>
          <p:nvPr/>
        </p:nvPicPr>
        <p:blipFill>
          <a:blip r:embed="rId1"/>
          <a:stretch/>
        </p:blipFill>
        <p:spPr>
          <a:xfrm>
            <a:off x="9785520" y="0"/>
            <a:ext cx="1187280" cy="1300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5T04:43:41Z</dcterms:created>
  <dc:creator>abc</dc:creator>
  <dc:description/>
  <dc:language>en-US</dc:language>
  <cp:lastModifiedBy>ACER-PC</cp:lastModifiedBy>
  <cp:lastPrinted>2020-12-08T10:41:46Z</cp:lastPrinted>
  <dcterms:modified xsi:type="dcterms:W3CDTF">2020-12-08T10:46:04Z</dcterms:modified>
  <cp:revision>284</cp:revision>
  <dc:subject/>
  <dc:title>No Slide Title</dc:title>
</cp:coreProperties>
</file>