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972800" cy="73152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716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678040" y="525600"/>
            <a:ext cx="394200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39480" y="3328560"/>
            <a:ext cx="6816600" cy="3156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375BA3E-E2E9-42C9-98F4-B3B92E301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055"/>
          <p:cNvSpPr/>
          <p:nvPr/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4FB64F-E703-4365-800F-7D7CFF6B6B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676600" y="525600"/>
            <a:ext cx="3943440" cy="2628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238400" y="3328560"/>
            <a:ext cx="681984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B61-42C4-4E05-A26C-FE58241D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CF9-5400-4526-AFB6-276D53EA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B5B-E850-473E-8508-F42DA3F3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290-BB5B-4191-A3D2-687D1B44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F39-89ED-4E66-B799-E67AC939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732-E352-4E28-B317-47251D26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828-E90B-4C77-9E8D-B108A370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935-3866-4230-8075-C3A9C58F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293760"/>
            <a:ext cx="9874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4CA-E922-4718-A670-FC4EA998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C27-7C4A-4EC7-B3A3-4CC00663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CE0-DB74-4CB3-9B81-ECAB6EF4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740-CC90-43EA-8F06-2D79D9F2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50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2606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6780240"/>
            <a:ext cx="34732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A61D-7064-4215-9E2E-A5F184194B6E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733840" y="442800"/>
            <a:ext cx="720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085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GOVERNMENT OF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MINISTRY OF PORTS, SHIPPING &amp; WATER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DIRECTORATE GENERAL OF  LIGHTHOUSES &amp; LIGHTSHI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282" t="0" r="66511" b="47697"/>
          <a:stretch/>
        </p:blipFill>
        <p:spPr>
          <a:xfrm>
            <a:off x="4114800" y="2438280"/>
            <a:ext cx="1905120" cy="2433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99240" y="57150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ids to Navigation- An Up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9721800" cy="594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New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IVEF Compliant VTS Software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operational in VTS – Gulf of Kutc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VTS- Gulf of Kutch software was upgraded with update features and with IVEF format and became operational with all its features in the first quarter this year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38000" y="1706400"/>
            <a:ext cx="285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30240" y="2090880"/>
            <a:ext cx="93474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80880" y="990720"/>
            <a:ext cx="10599840" cy="75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RTCM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 (Radio Technical Commission for Maritime Services) Standards for </a:t>
            </a: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NavIC in DGNSS application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officially released on RTCM website on April 28, 2020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Indian Regional Navigation Satellite System (IRNSS) recog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he International Maritime Organization (IMO) has recognised the Indian Regional Navigation Satellite System (IRNSS) as a component of the World-Wide Radio Navigation System (WWRNS) for operation in the Indian Ocea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80880" y="990720"/>
            <a:ext cx="10287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NavIC (IRNSS) is an independent regional navigation satellite system developed by India to provide accurate position information service to assist in the navigation of ships in Indian Ocean wa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ing its 102nd session held virtually (4 to 11 November 2020), the 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Maritime Safety Committee (MSC) of IMO recognized the Indian Regional Navigation Satellite System (IRNSS) as a component of  the  World-wide  radio navigation 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33520" y="533520"/>
            <a:ext cx="1013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0070c0"/>
                </a:solidFill>
                <a:latin typeface="Arial"/>
                <a:ea typeface="Arial"/>
              </a:rPr>
              <a:t>Establishment of new Lighthouse at Tajpur and Kuthenku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For easy identification of landmark and to provide seamless coverage of lighthouse along the Indian Coast two new Lighthouses at Tajpur and Kuthenkuli have been inaugurated this ye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9966240" cy="6259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Aids to marine Navigation Act 2020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ids to marine Navigation 2020 superseding Lighthouse Act 1927 has been drafted into Bill and submitted for approval in Parliament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1905120" y="3048120"/>
            <a:ext cx="701028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HANK  YOU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6" descr="C LH3"/>
          <p:cNvPicPr/>
          <p:nvPr/>
        </p:nvPicPr>
        <p:blipFill>
          <a:blip r:embed="rId1"/>
          <a:stretch/>
        </p:blipFill>
        <p:spPr>
          <a:xfrm>
            <a:off x="9785520" y="0"/>
            <a:ext cx="1187280" cy="13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4:43:41Z</dcterms:created>
  <dc:creator>abc</dc:creator>
  <dc:description/>
  <dc:language>en-US</dc:language>
  <cp:lastModifiedBy>ACER-PC</cp:lastModifiedBy>
  <cp:lastPrinted>2020-12-08T10:41:46Z</cp:lastPrinted>
  <dcterms:modified xsi:type="dcterms:W3CDTF">2020-12-08T10:46:04Z</dcterms:modified>
  <cp:revision>284</cp:revision>
  <dc:subject/>
  <dc:title>No Slide Title</dc:title>
</cp:coreProperties>
</file>