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93A3-4B0E-4428-948C-221148C89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3111-E50F-47FD-AB47-1759AD605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B415-B085-48E9-AD27-96291751F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A7CF-CFC8-4551-90F6-577773E02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E1B8-FE1E-4CE4-ABA2-1DA183CC7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15B8-0574-4A89-85E1-499FF5BF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E17D-9ABE-4B4F-AC42-4F17C89D8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5753-D97A-41EA-88BD-5E827F1D8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2B15-F686-4E24-A491-B0EC15E23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AF64-57BF-4A8A-8A93-9684B36A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7971-D37A-4A6A-98BF-13AC38C0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BA4A-B7D6-49A7-9ACC-DF5B18E6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86D8A-F050-4235-A593-3F40FB326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838080"/>
            <a:ext cx="8763120" cy="33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ALA FRAME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ITIME BUOYAGE SYSTEM &amp; OTHER AIDS TO NAV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v Gu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ALA Recommend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ALA Guide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0880" y="457200"/>
            <a:ext cx="8382240" cy="57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 MAR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eral Ma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dinal Ma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lated Danger Ma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fe Water Ma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 Ma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Danger Mark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**NEW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 Danger and Wreck Marking Bu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Mark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**NEW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ght Ho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ctor L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ading L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jor Floating A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ids of Non-Lateral Signific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257800" y="1066680"/>
            <a:ext cx="762120" cy="2895840"/>
          </a:xfrm>
          <a:custGeom>
            <a:avLst/>
            <a:gdLst>
              <a:gd name="textAreaLeft" fmla="*/ 0 w 762120"/>
              <a:gd name="textAreaRight" fmla="*/ 275040 w 762120"/>
              <a:gd name="textAreaTop" fmla="*/ 75240 h 2895840"/>
              <a:gd name="textAreaBottom" fmla="*/ 28206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72200" y="21780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B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72200" y="423540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ther A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4191120"/>
            <a:ext cx="853452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9:34:05Z</dcterms:created>
  <dc:creator>PWN</dc:creator>
  <dc:description/>
  <dc:language>en-US</dc:language>
  <cp:lastModifiedBy>PWN</cp:lastModifiedBy>
  <dcterms:modified xsi:type="dcterms:W3CDTF">2008-10-16T11:59:12Z</dcterms:modified>
  <cp:revision>2</cp:revision>
  <dc:subject/>
  <dc:title>Slide 1</dc:title>
</cp:coreProperties>
</file>