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BB5-40B7-4CEC-A8A4-0EFA4379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AE6-4D60-4356-A449-53862562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C8D-18F5-4D91-AAD3-AF284010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6B4-E81D-43D5-A884-DFDFA8B5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2BB-372B-4B59-AA6B-2C69BE84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DFD-B8DC-4FF7-9E4F-5154E0AB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658-EFAE-4A70-80B3-D9AD35CA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947-83CB-4867-B241-280BAD77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8E9-D15A-4FBF-9D03-DFDBC5EB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BFC-A62D-4DEB-8C0C-9DBA4B77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0AB-8B6B-4904-B15B-59607E74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437-D54A-4431-967C-4142D0F0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F4F5-186E-457A-9E67-4DAF172B0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38080"/>
            <a:ext cx="87631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LA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ITIME BUOYAGE SYSTEM &amp; OTHER AIDS TO 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v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LA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ALA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457200"/>
            <a:ext cx="838224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 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n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Dang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 Wat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ang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Danger and Wreck Marking Bu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ght 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or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ing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Floating 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of Non-Lateral Signifi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1066680"/>
            <a:ext cx="762120" cy="2895840"/>
          </a:xfrm>
          <a:custGeom>
            <a:avLst/>
            <a:gdLst>
              <a:gd name="textAreaLeft" fmla="*/ 0 w 762120"/>
              <a:gd name="textAreaRight" fmla="*/ 275040 w 7621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2178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4235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191120"/>
            <a:ext cx="853452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9:34:05Z</dcterms:created>
  <dc:creator>PWN</dc:creator>
  <dc:description/>
  <dc:language>en-US</dc:language>
  <cp:lastModifiedBy>PWN</cp:lastModifiedBy>
  <dcterms:modified xsi:type="dcterms:W3CDTF">2008-10-16T11:59:12Z</dcterms:modified>
  <cp:revision>2</cp:revision>
  <dc:subject/>
  <dc:title>Slide 1</dc:title>
</cp:coreProperties>
</file>