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E65-4277-46C9-B9ED-3894EE28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519-FE19-49A5-96C1-A74145A0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28E-ADEA-45C3-AC16-6F39C6B0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BD7-6F6E-4F23-9F42-F1F1760A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E7983-3929-4D36-AB23-EB169525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9232A-127C-4A08-A639-296538F8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2B3C7-3A66-4F19-BAC2-8DC039E6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7E6F3-0008-4341-B26E-B189786B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B3537-EFB2-4924-A6A6-BC138E57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64EC2-DB1F-4692-9024-C2A365AE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66ED8-3268-4947-8BE7-A1D982FD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B53-0FC4-4E21-BD64-A281ADF4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EB2B4-A5C8-4CA3-ACDC-E6FDF03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49FB4-D0AE-4E49-A5CD-3349E45C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D9895-88B9-4DD0-8FFB-BF4C17A6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E4E9D-DAA0-4486-9F8A-08B8FE5C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443D8-9D7E-449E-9F7C-3620EEA4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070-B489-43DC-93C9-21D95C7C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8E0-2236-4A32-9906-CB4D172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5D5-4272-4F32-9236-F462AB42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00A-1B35-4DCA-8007-E5D378B1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245-4568-453B-B45B-7FF9E47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BA6-53F7-4EBF-B601-DA3BB76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3BB-B799-474F-B401-74FC13D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B664-9977-479E-9E75-31EBD9A28BD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5D73-854A-4FF0-A182-A07A3337DBCF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867280" y="404640"/>
            <a:ext cx="25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NM17/8/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ormerly e-NAV10/5/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7-06T09:33:55Z</dcterms:modified>
  <cp:revision>23</cp:revision>
  <dc:subject/>
  <dc:title>Slide 1</dc:title>
</cp:coreProperties>
</file>