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DATTILO.WAV" ContentType="audio/x-wav"/>
  <Override PartName="/ppt/media/LASER.WAV" ContentType="audio/x-wav"/>
  <Override PartName="/ppt/media/PROMEMOR.WAV" ContentType="audio/x-wav"/>
  <Override PartName="/ppt/media/FOTO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3D1D-804D-4979-8B6E-6277CCF5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AC32-64F4-4D23-A335-3BDAB5EF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B85C-2731-4DD4-BF8E-DDBFFC67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7D07-0A01-44C9-828C-535A0A30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E707-CC58-481A-A6F6-11175C09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A568-9EE9-4001-8F87-75FB1392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0A65-B866-4B7B-9A3D-DA21530E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55EF-421F-4F74-9C9B-48C9E5BE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1B87-1D74-47EE-839E-C32983A7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F2CB-D762-4499-91C5-5B774F55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FEE2-3273-4C3A-95D9-E0BF2D98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48B3-67A6-4E6E-93C4-496B2AD8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2E46-053A-41B5-B652-EC565C479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ATTILO.WAV"/><Relationship Id="rId3" Type="http://schemas.openxmlformats.org/officeDocument/2006/relationships/audio" Target="../media/DATTILO.WAV"/><Relationship Id="rId4" Type="http://schemas.openxmlformats.org/officeDocument/2006/relationships/audio" Target="../media/DATTILO.WAV"/><Relationship Id="rId5" Type="http://schemas.openxmlformats.org/officeDocument/2006/relationships/audio" Target="../media/DATTILO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MEMO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FOTO.WAV"/><Relationship Id="rId3" Type="http://schemas.openxmlformats.org/officeDocument/2006/relationships/audio" Target="../media/FOTO.WAV"/><Relationship Id="rId4" Type="http://schemas.openxmlformats.org/officeDocument/2006/relationships/audio" Target="../media/FOTO.WAV"/><Relationship Id="rId5" Type="http://schemas.openxmlformats.org/officeDocument/2006/relationships/audio" Target="../media/FOTO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cde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5867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410080" y="3048120"/>
            <a:ext cx="15242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1981080"/>
            <a:ext cx="3124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5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4648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19920" y="36576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d0a6"/>
            </a:gs>
            <a:gs pos="50000">
              <a:srgbClr val="ccffcc"/>
            </a:gs>
            <a:gs pos="100000">
              <a:srgbClr val="a6d0a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05520" y="2743200"/>
            <a:ext cx="2133360" cy="21337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1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9920" y="472428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19920" y="2590920"/>
            <a:ext cx="30456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029200" y="3733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162920" y="3733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95280" y="4648320"/>
            <a:ext cx="2438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172200" y="365760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6019920" y="3809880"/>
            <a:ext cx="304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48640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9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048120" y="1981080"/>
            <a:ext cx="3047760" cy="3048120"/>
          </a:xfrm>
          <a:prstGeom prst="ellipse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05320" y="2438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95680" y="2133720"/>
            <a:ext cx="3353040" cy="3352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478296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66680" y="4630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0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72200" y="3719520"/>
            <a:ext cx="157320" cy="90360"/>
          </a:xfrm>
          <a:custGeom>
            <a:avLst/>
            <a:gdLst/>
            <a:ahLst/>
            <a:rect l="l" t="t" r="r" b="b"/>
            <a:pathLst>
              <a:path w="99" h="57">
                <a:moveTo>
                  <a:pt x="0" y="57"/>
                </a:moveTo>
                <a:lnTo>
                  <a:pt x="99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19920" y="3719520"/>
            <a:ext cx="152280" cy="90360"/>
          </a:xfrm>
          <a:custGeom>
            <a:avLst/>
            <a:gdLst/>
            <a:ahLst/>
            <a:rect l="l" t="t" r="r" b="b"/>
            <a:pathLst>
              <a:path w="96" h="57">
                <a:moveTo>
                  <a:pt x="96" y="57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72200" y="3809880"/>
            <a:ext cx="0" cy="152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4674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19920" y="5334120"/>
            <a:ext cx="30456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486400" y="3809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2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286000" y="1219320"/>
            <a:ext cx="4572000" cy="4572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048120" y="1981080"/>
            <a:ext cx="3047760" cy="3048120"/>
          </a:xfrm>
          <a:prstGeom prst="ellipse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05320" y="2438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18288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3657600" y="1295280"/>
            <a:ext cx="502920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86200" y="1523880"/>
            <a:ext cx="4572000" cy="45720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5468760"/>
            <a:ext cx="152280" cy="15264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09480" y="478296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66680" y="4630680"/>
            <a:ext cx="2438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0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3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038480" y="2514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001000" y="2514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019920" y="59436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14800" y="4876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077320" y="4876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5880" y="1447920"/>
            <a:ext cx="15264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172200" y="365760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14880" y="3719520"/>
            <a:ext cx="317520" cy="184320"/>
          </a:xfrm>
          <a:custGeom>
            <a:avLst/>
            <a:gdLst/>
            <a:ahLst/>
            <a:rect l="l" t="t" r="r" b="b"/>
            <a:pathLst>
              <a:path w="200" h="116">
                <a:moveTo>
                  <a:pt x="200" y="0"/>
                </a:moveTo>
                <a:lnTo>
                  <a:pt x="0" y="11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14880" y="3719520"/>
            <a:ext cx="314640" cy="184320"/>
          </a:xfrm>
          <a:custGeom>
            <a:avLst/>
            <a:gdLst/>
            <a:ahLst/>
            <a:rect l="l" t="t" r="r" b="b"/>
            <a:pathLst>
              <a:path w="198" h="116">
                <a:moveTo>
                  <a:pt x="0" y="0"/>
                </a:moveTo>
                <a:lnTo>
                  <a:pt x="198" y="11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638680" y="38862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6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124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19360" y="1752480"/>
            <a:ext cx="4190760" cy="41911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01000" y="22860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22860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53341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2209680"/>
            <a:ext cx="15264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24680" y="5257800"/>
            <a:ext cx="15264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22860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525780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2209680"/>
            <a:ext cx="15228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1706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505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ttle 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657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bd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" y="1981080"/>
            <a:ext cx="335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4457520" y="1485360"/>
            <a:ext cx="396252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419720" y="297180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438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2986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a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45100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s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419720" y="502776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532720" y="297180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4582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670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18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1981080"/>
            <a:ext cx="335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1523880"/>
            <a:ext cx="3962160" cy="4953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96080" y="20574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38680" y="2057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6172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20574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38680" y="1523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7800" y="3809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62720" y="6095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19810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20574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a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st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19051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60199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2058840"/>
            <a:ext cx="3047760" cy="3351240"/>
          </a:xfrm>
          <a:custGeom>
            <a:avLst/>
            <a:gdLst/>
            <a:ahLst/>
            <a:rect l="l" t="t" r="r" b="b"/>
            <a:pathLst>
              <a:path w="1920" h="2111">
                <a:moveTo>
                  <a:pt x="0" y="0"/>
                </a:moveTo>
                <a:cubicBezTo>
                  <a:pt x="399" y="0"/>
                  <a:pt x="204" y="0"/>
                  <a:pt x="384" y="0"/>
                </a:cubicBezTo>
                <a:cubicBezTo>
                  <a:pt x="419" y="96"/>
                  <a:pt x="384" y="2"/>
                  <a:pt x="420" y="96"/>
                </a:cubicBezTo>
                <a:cubicBezTo>
                  <a:pt x="432" y="128"/>
                  <a:pt x="445" y="160"/>
                  <a:pt x="459" y="192"/>
                </a:cubicBezTo>
                <a:cubicBezTo>
                  <a:pt x="472" y="224"/>
                  <a:pt x="494" y="272"/>
                  <a:pt x="501" y="288"/>
                </a:cubicBezTo>
                <a:cubicBezTo>
                  <a:pt x="508" y="304"/>
                  <a:pt x="494" y="272"/>
                  <a:pt x="501" y="288"/>
                </a:cubicBezTo>
                <a:cubicBezTo>
                  <a:pt x="508" y="304"/>
                  <a:pt x="530" y="352"/>
                  <a:pt x="546" y="384"/>
                </a:cubicBezTo>
                <a:cubicBezTo>
                  <a:pt x="562" y="416"/>
                  <a:pt x="581" y="448"/>
                  <a:pt x="600" y="480"/>
                </a:cubicBezTo>
                <a:cubicBezTo>
                  <a:pt x="619" y="512"/>
                  <a:pt x="639" y="544"/>
                  <a:pt x="659" y="576"/>
                </a:cubicBezTo>
                <a:cubicBezTo>
                  <a:pt x="679" y="608"/>
                  <a:pt x="697" y="639"/>
                  <a:pt x="719" y="671"/>
                </a:cubicBezTo>
                <a:cubicBezTo>
                  <a:pt x="740" y="703"/>
                  <a:pt x="766" y="736"/>
                  <a:pt x="791" y="768"/>
                </a:cubicBezTo>
                <a:cubicBezTo>
                  <a:pt x="816" y="800"/>
                  <a:pt x="842" y="831"/>
                  <a:pt x="870" y="863"/>
                </a:cubicBezTo>
                <a:cubicBezTo>
                  <a:pt x="898" y="895"/>
                  <a:pt x="929" y="928"/>
                  <a:pt x="960" y="959"/>
                </a:cubicBezTo>
                <a:cubicBezTo>
                  <a:pt x="991" y="990"/>
                  <a:pt x="1024" y="1023"/>
                  <a:pt x="1056" y="1051"/>
                </a:cubicBezTo>
                <a:cubicBezTo>
                  <a:pt x="1088" y="1079"/>
                  <a:pt x="1120" y="1104"/>
                  <a:pt x="1152" y="1129"/>
                </a:cubicBezTo>
                <a:cubicBezTo>
                  <a:pt x="1184" y="1154"/>
                  <a:pt x="1216" y="1177"/>
                  <a:pt x="1248" y="1199"/>
                </a:cubicBezTo>
                <a:cubicBezTo>
                  <a:pt x="1280" y="1221"/>
                  <a:pt x="1314" y="1244"/>
                  <a:pt x="1346" y="1264"/>
                </a:cubicBezTo>
                <a:cubicBezTo>
                  <a:pt x="1378" y="1284"/>
                  <a:pt x="1407" y="1303"/>
                  <a:pt x="1439" y="1321"/>
                </a:cubicBezTo>
                <a:cubicBezTo>
                  <a:pt x="1471" y="1339"/>
                  <a:pt x="1504" y="1354"/>
                  <a:pt x="1536" y="1370"/>
                </a:cubicBezTo>
                <a:cubicBezTo>
                  <a:pt x="1568" y="1386"/>
                  <a:pt x="1600" y="1402"/>
                  <a:pt x="1632" y="1417"/>
                </a:cubicBezTo>
                <a:cubicBezTo>
                  <a:pt x="1664" y="1432"/>
                  <a:pt x="1698" y="1446"/>
                  <a:pt x="1730" y="1460"/>
                </a:cubicBezTo>
                <a:cubicBezTo>
                  <a:pt x="1762" y="1474"/>
                  <a:pt x="1794" y="1489"/>
                  <a:pt x="1826" y="1501"/>
                </a:cubicBezTo>
                <a:cubicBezTo>
                  <a:pt x="1920" y="1535"/>
                  <a:pt x="1824" y="1501"/>
                  <a:pt x="1920" y="1535"/>
                </a:cubicBezTo>
                <a:cubicBezTo>
                  <a:pt x="1920" y="1601"/>
                  <a:pt x="1920" y="1819"/>
                  <a:pt x="1920" y="1921"/>
                </a:cubicBezTo>
                <a:cubicBezTo>
                  <a:pt x="1737" y="1921"/>
                  <a:pt x="164" y="1920"/>
                  <a:pt x="0" y="1920"/>
                </a:cubicBezTo>
                <a:cubicBezTo>
                  <a:pt x="0" y="1802"/>
                  <a:pt x="0" y="2111"/>
                  <a:pt x="0" y="0"/>
                </a:cubicBezTo>
                <a:close/>
              </a:path>
            </a:pathLst>
          </a:custGeom>
          <a:solidFill>
            <a:srgbClr val="ffcc99"/>
          </a:solidFill>
          <a:ln cap="rnd" w="3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62520" y="400860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3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57200" y="1752480"/>
            <a:ext cx="33526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ch a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4457520" y="1485360"/>
            <a:ext cx="396252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419720" y="297180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48520" y="2438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419720" y="502776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532720" y="297180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458200" y="28954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670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1880" y="48769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743200" y="2057400"/>
            <a:ext cx="3809880" cy="380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05320" y="2058840"/>
            <a:ext cx="3047760" cy="3351240"/>
          </a:xfrm>
          <a:custGeom>
            <a:avLst/>
            <a:gdLst/>
            <a:ahLst/>
            <a:rect l="l" t="t" r="r" b="b"/>
            <a:pathLst>
              <a:path w="1920" h="2111">
                <a:moveTo>
                  <a:pt x="0" y="0"/>
                </a:moveTo>
                <a:cubicBezTo>
                  <a:pt x="399" y="0"/>
                  <a:pt x="204" y="0"/>
                  <a:pt x="384" y="0"/>
                </a:cubicBezTo>
                <a:cubicBezTo>
                  <a:pt x="419" y="96"/>
                  <a:pt x="384" y="2"/>
                  <a:pt x="420" y="96"/>
                </a:cubicBezTo>
                <a:cubicBezTo>
                  <a:pt x="432" y="128"/>
                  <a:pt x="445" y="160"/>
                  <a:pt x="459" y="192"/>
                </a:cubicBezTo>
                <a:cubicBezTo>
                  <a:pt x="472" y="224"/>
                  <a:pt x="494" y="272"/>
                  <a:pt x="501" y="288"/>
                </a:cubicBezTo>
                <a:cubicBezTo>
                  <a:pt x="508" y="304"/>
                  <a:pt x="494" y="272"/>
                  <a:pt x="501" y="288"/>
                </a:cubicBezTo>
                <a:cubicBezTo>
                  <a:pt x="508" y="304"/>
                  <a:pt x="530" y="352"/>
                  <a:pt x="546" y="384"/>
                </a:cubicBezTo>
                <a:cubicBezTo>
                  <a:pt x="562" y="416"/>
                  <a:pt x="581" y="448"/>
                  <a:pt x="600" y="480"/>
                </a:cubicBezTo>
                <a:cubicBezTo>
                  <a:pt x="619" y="512"/>
                  <a:pt x="639" y="544"/>
                  <a:pt x="659" y="576"/>
                </a:cubicBezTo>
                <a:cubicBezTo>
                  <a:pt x="679" y="608"/>
                  <a:pt x="697" y="639"/>
                  <a:pt x="719" y="671"/>
                </a:cubicBezTo>
                <a:cubicBezTo>
                  <a:pt x="740" y="703"/>
                  <a:pt x="766" y="736"/>
                  <a:pt x="791" y="768"/>
                </a:cubicBezTo>
                <a:cubicBezTo>
                  <a:pt x="816" y="800"/>
                  <a:pt x="842" y="831"/>
                  <a:pt x="870" y="863"/>
                </a:cubicBezTo>
                <a:cubicBezTo>
                  <a:pt x="898" y="895"/>
                  <a:pt x="929" y="928"/>
                  <a:pt x="960" y="959"/>
                </a:cubicBezTo>
                <a:cubicBezTo>
                  <a:pt x="991" y="990"/>
                  <a:pt x="1024" y="1023"/>
                  <a:pt x="1056" y="1051"/>
                </a:cubicBezTo>
                <a:cubicBezTo>
                  <a:pt x="1088" y="1079"/>
                  <a:pt x="1120" y="1104"/>
                  <a:pt x="1152" y="1129"/>
                </a:cubicBezTo>
                <a:cubicBezTo>
                  <a:pt x="1184" y="1154"/>
                  <a:pt x="1216" y="1177"/>
                  <a:pt x="1248" y="1199"/>
                </a:cubicBezTo>
                <a:cubicBezTo>
                  <a:pt x="1280" y="1221"/>
                  <a:pt x="1314" y="1244"/>
                  <a:pt x="1346" y="1264"/>
                </a:cubicBezTo>
                <a:cubicBezTo>
                  <a:pt x="1378" y="1284"/>
                  <a:pt x="1407" y="1303"/>
                  <a:pt x="1439" y="1321"/>
                </a:cubicBezTo>
                <a:cubicBezTo>
                  <a:pt x="1471" y="1339"/>
                  <a:pt x="1504" y="1354"/>
                  <a:pt x="1536" y="1370"/>
                </a:cubicBezTo>
                <a:cubicBezTo>
                  <a:pt x="1568" y="1386"/>
                  <a:pt x="1600" y="1402"/>
                  <a:pt x="1632" y="1417"/>
                </a:cubicBezTo>
                <a:cubicBezTo>
                  <a:pt x="1664" y="1432"/>
                  <a:pt x="1698" y="1446"/>
                  <a:pt x="1730" y="1460"/>
                </a:cubicBezTo>
                <a:cubicBezTo>
                  <a:pt x="1762" y="1474"/>
                  <a:pt x="1794" y="1489"/>
                  <a:pt x="1826" y="1501"/>
                </a:cubicBezTo>
                <a:cubicBezTo>
                  <a:pt x="1920" y="1535"/>
                  <a:pt x="1824" y="1501"/>
                  <a:pt x="1920" y="1535"/>
                </a:cubicBezTo>
                <a:cubicBezTo>
                  <a:pt x="1920" y="1601"/>
                  <a:pt x="1920" y="1819"/>
                  <a:pt x="1920" y="1921"/>
                </a:cubicBezTo>
                <a:cubicBezTo>
                  <a:pt x="1737" y="1921"/>
                  <a:pt x="164" y="1920"/>
                  <a:pt x="0" y="1920"/>
                </a:cubicBezTo>
                <a:cubicBezTo>
                  <a:pt x="0" y="1802"/>
                  <a:pt x="0" y="2111"/>
                  <a:pt x="0" y="0"/>
                </a:cubicBezTo>
                <a:close/>
              </a:path>
            </a:pathLst>
          </a:custGeom>
          <a:solidFill>
            <a:srgbClr val="ffcc99"/>
          </a:solidFill>
          <a:ln cap="rnd" w="3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400860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81480" y="278928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MEM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 rot="16200000">
            <a:off x="3886200" y="1676160"/>
            <a:ext cx="4800600" cy="4800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4419360" y="22096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5880" y="16765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52722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4419360" y="60199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8228160" y="2209680"/>
            <a:ext cx="144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4419720" y="2209680"/>
            <a:ext cx="144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16765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9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ch a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541008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267080" y="20574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77320" y="20574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077320" y="586728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67080" y="586728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3T11:31:05Z</dcterms:created>
  <dc:creator>Navispelog - 4° Reparto Fari</dc:creator>
  <dc:description/>
  <dc:language>en-US</dc:language>
  <cp:lastModifiedBy>CIL</cp:lastModifiedBy>
  <dcterms:modified xsi:type="dcterms:W3CDTF">2006-10-18T14:25:40Z</dcterms:modified>
  <cp:revision>49</cp:revision>
  <dc:subject/>
  <dc:title>MARICOLTURE</dc:title>
</cp:coreProperties>
</file>