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FECA-4872-4758-A66A-3FC60E70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82EA-1547-4B5B-BA79-54F3CB62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76EE-E910-4C44-877E-359904069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5E24-A356-40C6-B08C-94E8E281B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9F01-651E-45BD-855E-29CDC669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52C0-799B-48F3-8D6D-12DD4A5B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A0FB-D8CE-48E1-8908-7E757603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8E15-336E-45F8-AC65-7497E601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0413-7837-4B4E-93FE-391873B1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CA3A-1E49-48F9-B62F-DB44DF45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0EE7-7EFD-4685-BBC3-1C928CD7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B438-9DF8-4E59-BD16-B4BF5358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94F2-BDCD-46ED-A105-4CBE3A1E6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24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16360" y="5589720"/>
            <a:ext cx="1439640" cy="431640"/>
          </a:xfrm>
          <a:prstGeom prst="wedgeRectCallout">
            <a:avLst>
              <a:gd name="adj1" fmla="val 31699"/>
              <a:gd name="adj2" fmla="val -302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er I “edge” (new lighthouse requi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67280" y="5805360"/>
            <a:ext cx="1295640" cy="432000"/>
          </a:xfrm>
          <a:prstGeom prst="wedgeRectCallout">
            <a:avLst>
              <a:gd name="adj1" fmla="val -141546"/>
              <a:gd name="adj2" fmla="val -1007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er II (existing lighthous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7:09:02Z</dcterms:created>
  <dc:creator>alialios</dc:creator>
  <dc:description/>
  <dc:language>en-US</dc:language>
  <cp:lastModifiedBy>alialios</cp:lastModifiedBy>
  <dcterms:modified xsi:type="dcterms:W3CDTF">2007-03-26T07:09:58Z</dcterms:modified>
  <cp:revision>2</cp:revision>
  <dc:subject/>
  <dc:title>Slide 1</dc:title>
</cp:coreProperties>
</file>