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DATTILO.WAV" ContentType="audio/x-wav"/>
  <Override PartName="/ppt/media/LASER.WAV" ContentType="audio/x-wav"/>
  <Override PartName="/ppt/media/PROMEMOR.WAV" ContentType="audio/x-wav"/>
  <Override PartName="/ppt/media/FOT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85B-3B1F-4C71-A4E7-F7BAD259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431-B275-47ED-B5F3-70159EC9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783-8602-45B3-A477-0769711F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534-8677-48B8-B101-9F4805E8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904-C35B-4E5E-9573-9589302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D8C-AD38-4914-B726-16F04901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F48-7B8D-477F-B73B-CCE2DA80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647-531C-4214-9EFF-CFF490D3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9E7-02D1-4672-B8F1-06D8A20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95A-9E2A-4425-94F9-24CF5F28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48D-E060-45FC-BA5C-E9BFA4A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50D-CE48-4B1D-87D5-DDD48C5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A5E4-5D7B-4C7D-9676-5E2182A72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ATTILO.WAV"/><Relationship Id="rId3" Type="http://schemas.openxmlformats.org/officeDocument/2006/relationships/audio" Target="../media/DATTILO.WAV"/><Relationship Id="rId4" Type="http://schemas.openxmlformats.org/officeDocument/2006/relationships/audio" Target="../media/DATTILO.WAV"/><Relationship Id="rId5" Type="http://schemas.openxmlformats.org/officeDocument/2006/relationships/audio" Target="../media/DATTILO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MEM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OTO.WAV"/><Relationship Id="rId3" Type="http://schemas.openxmlformats.org/officeDocument/2006/relationships/audio" Target="../media/FOTO.WAV"/><Relationship Id="rId4" Type="http://schemas.openxmlformats.org/officeDocument/2006/relationships/audio" Target="../media/FOTO.WAV"/><Relationship Id="rId5" Type="http://schemas.openxmlformats.org/officeDocument/2006/relationships/audio" Target="../media/FOT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cde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3048120"/>
            <a:ext cx="15242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1981080"/>
            <a:ext cx="3124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5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9920" y="3657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d0a6"/>
            </a:gs>
            <a:gs pos="50000">
              <a:srgbClr val="ccffcc"/>
            </a:gs>
            <a:gs pos="100000">
              <a:srgbClr val="a6d0a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05520" y="2743200"/>
            <a:ext cx="2133360" cy="2133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1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724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733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95280" y="464832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019920" y="3809880"/>
            <a:ext cx="304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48640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733920" y="1371600"/>
            <a:ext cx="487656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2133720"/>
            <a:ext cx="33530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4630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3719520"/>
            <a:ext cx="157320" cy="90360"/>
          </a:xfrm>
          <a:custGeom>
            <a:avLst/>
            <a:gdLst/>
            <a:ahLst/>
            <a:rect l="l" t="t" r="r" b="b"/>
            <a:pathLst>
              <a:path w="99" h="57">
                <a:moveTo>
                  <a:pt x="0" y="57"/>
                </a:moveTo>
                <a:lnTo>
                  <a:pt x="9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37195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57"/>
                </a:move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19920" y="5334120"/>
            <a:ext cx="30456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86400" y="3809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3dfc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86000" y="1219320"/>
            <a:ext cx="4572000" cy="4572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1981080"/>
            <a:ext cx="3047760" cy="3048120"/>
          </a:xfrm>
          <a:prstGeom prst="ellipse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2743200"/>
            <a:ext cx="1524240" cy="1523880"/>
          </a:xfrm>
          <a:prstGeom prst="ellipse">
            <a:avLst/>
          </a:prstGeom>
          <a:solidFill>
            <a:srgbClr val="99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91120" y="3124080"/>
            <a:ext cx="761760" cy="762120"/>
          </a:xfrm>
          <a:prstGeom prst="ellipse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58672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91120" y="32306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2895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505320" y="24382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18288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4191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3505320"/>
            <a:ext cx="0" cy="26668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3886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4267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648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50292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5410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56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191120" y="380988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572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495288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114800" y="533412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5715000"/>
            <a:ext cx="533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91120" y="3429000"/>
            <a:ext cx="4572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cc6600"/>
                </a:solidFill>
                <a:latin typeface="Times New Roman"/>
              </a:rPr>
              <a:t>CIRC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657600" y="1295280"/>
            <a:ext cx="50292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1523880"/>
            <a:ext cx="4572000" cy="457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5468760"/>
            <a:ext cx="152280" cy="15264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480" y="478296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66680" y="4630680"/>
            <a:ext cx="2438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1981080"/>
            <a:ext cx="31240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3.0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01000" y="2514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59436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077320" y="4876920"/>
            <a:ext cx="15228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1447920"/>
            <a:ext cx="152640" cy="152280"/>
          </a:xfrm>
          <a:prstGeom prst="flowChartConnector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172200" y="36576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14880" y="3719520"/>
            <a:ext cx="317520" cy="184320"/>
          </a:xfrm>
          <a:custGeom>
            <a:avLst/>
            <a:gdLst/>
            <a:ahLst/>
            <a:rect l="l" t="t" r="r" b="b"/>
            <a:pathLst>
              <a:path w="200" h="116">
                <a:moveTo>
                  <a:pt x="200" y="0"/>
                </a:moveTo>
                <a:lnTo>
                  <a:pt x="0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4880" y="3719520"/>
            <a:ext cx="314640" cy="184320"/>
          </a:xfrm>
          <a:custGeom>
            <a:avLst/>
            <a:gdLst/>
            <a:ahLst/>
            <a:rect l="l" t="t" r="r" b="b"/>
            <a:pathLst>
              <a:path w="198" h="116">
                <a:moveTo>
                  <a:pt x="0" y="0"/>
                </a:moveTo>
                <a:lnTo>
                  <a:pt x="198" y="11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388620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60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CIRC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124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19360" y="1752480"/>
            <a:ext cx="4190760" cy="4191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22860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5334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2096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2578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2286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22096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1706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05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ttle 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657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ebd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438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986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45100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582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18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1981080"/>
            <a:ext cx="335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max.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1523880"/>
            <a:ext cx="3962160" cy="4953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6172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20574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152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38098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6095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19810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a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s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19051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6019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52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AT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ef3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1752480"/>
            <a:ext cx="33526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457520" y="1485360"/>
            <a:ext cx="3962520" cy="495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19720" y="297180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48520" y="2438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5486400"/>
            <a:ext cx="152280" cy="15228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19720" y="5027760"/>
            <a:ext cx="411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532720" y="297180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28954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952880"/>
            <a:ext cx="152280" cy="15264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8006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28195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4876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4648320"/>
            <a:ext cx="266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y 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2057400"/>
            <a:ext cx="3809880" cy="3809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6880" y="2514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2362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2209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6880" y="2666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24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6880" y="2971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58128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66880" y="3429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3276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37339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8862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66880" y="40384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66880" y="41911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90920" y="4343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6880" y="44956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48006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9528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0920" y="510552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66880" y="52578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46483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541008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66880" y="556272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66880" y="5715000"/>
            <a:ext cx="76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666880" y="5867280"/>
            <a:ext cx="7632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90920" y="2057400"/>
            <a:ext cx="152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9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00800" y="5867280"/>
            <a:ext cx="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867280"/>
            <a:ext cx="0" cy="152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142640"/>
            <a:ext cx="0" cy="47242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5867280"/>
            <a:ext cx="4724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43200" y="5105520"/>
            <a:ext cx="762120" cy="761760"/>
          </a:xfrm>
          <a:prstGeom prst="rect">
            <a:avLst/>
          </a:prstGeom>
          <a:solidFill>
            <a:srgbClr val="ff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743200" y="2057400"/>
            <a:ext cx="762120" cy="304812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5105520"/>
            <a:ext cx="3047760" cy="761760"/>
          </a:xfrm>
          <a:prstGeom prst="rect">
            <a:avLst/>
          </a:prstGeom>
          <a:solidFill>
            <a:srgbClr val="99ffcc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2058840"/>
            <a:ext cx="3047760" cy="3351240"/>
          </a:xfrm>
          <a:custGeom>
            <a:avLst/>
            <a:gdLst/>
            <a:ahLst/>
            <a:rect l="l" t="t" r="r" b="b"/>
            <a:pathLst>
              <a:path w="1920" h="2111">
                <a:moveTo>
                  <a:pt x="0" y="0"/>
                </a:moveTo>
                <a:cubicBezTo>
                  <a:pt x="399" y="0"/>
                  <a:pt x="204" y="0"/>
                  <a:pt x="384" y="0"/>
                </a:cubicBezTo>
                <a:cubicBezTo>
                  <a:pt x="419" y="96"/>
                  <a:pt x="384" y="2"/>
                  <a:pt x="420" y="96"/>
                </a:cubicBezTo>
                <a:cubicBezTo>
                  <a:pt x="432" y="128"/>
                  <a:pt x="445" y="160"/>
                  <a:pt x="459" y="192"/>
                </a:cubicBezTo>
                <a:cubicBezTo>
                  <a:pt x="472" y="224"/>
                  <a:pt x="494" y="272"/>
                  <a:pt x="501" y="288"/>
                </a:cubicBezTo>
                <a:cubicBezTo>
                  <a:pt x="508" y="304"/>
                  <a:pt x="494" y="272"/>
                  <a:pt x="501" y="288"/>
                </a:cubicBezTo>
                <a:cubicBezTo>
                  <a:pt x="508" y="304"/>
                  <a:pt x="530" y="352"/>
                  <a:pt x="546" y="384"/>
                </a:cubicBezTo>
                <a:cubicBezTo>
                  <a:pt x="562" y="416"/>
                  <a:pt x="581" y="448"/>
                  <a:pt x="600" y="480"/>
                </a:cubicBezTo>
                <a:cubicBezTo>
                  <a:pt x="619" y="512"/>
                  <a:pt x="639" y="544"/>
                  <a:pt x="659" y="576"/>
                </a:cubicBezTo>
                <a:cubicBezTo>
                  <a:pt x="679" y="608"/>
                  <a:pt x="697" y="639"/>
                  <a:pt x="719" y="671"/>
                </a:cubicBezTo>
                <a:cubicBezTo>
                  <a:pt x="740" y="703"/>
                  <a:pt x="766" y="736"/>
                  <a:pt x="791" y="768"/>
                </a:cubicBezTo>
                <a:cubicBezTo>
                  <a:pt x="816" y="800"/>
                  <a:pt x="842" y="831"/>
                  <a:pt x="870" y="863"/>
                </a:cubicBezTo>
                <a:cubicBezTo>
                  <a:pt x="898" y="895"/>
                  <a:pt x="929" y="928"/>
                  <a:pt x="960" y="959"/>
                </a:cubicBezTo>
                <a:cubicBezTo>
                  <a:pt x="991" y="990"/>
                  <a:pt x="1024" y="1023"/>
                  <a:pt x="1056" y="1051"/>
                </a:cubicBezTo>
                <a:cubicBezTo>
                  <a:pt x="1088" y="1079"/>
                  <a:pt x="1120" y="1104"/>
                  <a:pt x="1152" y="1129"/>
                </a:cubicBezTo>
                <a:cubicBezTo>
                  <a:pt x="1184" y="1154"/>
                  <a:pt x="1216" y="1177"/>
                  <a:pt x="1248" y="1199"/>
                </a:cubicBezTo>
                <a:cubicBezTo>
                  <a:pt x="1280" y="1221"/>
                  <a:pt x="1314" y="1244"/>
                  <a:pt x="1346" y="1264"/>
                </a:cubicBezTo>
                <a:cubicBezTo>
                  <a:pt x="1378" y="1284"/>
                  <a:pt x="1407" y="1303"/>
                  <a:pt x="1439" y="1321"/>
                </a:cubicBezTo>
                <a:cubicBezTo>
                  <a:pt x="1471" y="1339"/>
                  <a:pt x="1504" y="1354"/>
                  <a:pt x="1536" y="1370"/>
                </a:cubicBezTo>
                <a:cubicBezTo>
                  <a:pt x="1568" y="1386"/>
                  <a:pt x="1600" y="1402"/>
                  <a:pt x="1632" y="1417"/>
                </a:cubicBezTo>
                <a:cubicBezTo>
                  <a:pt x="1664" y="1432"/>
                  <a:pt x="1698" y="1446"/>
                  <a:pt x="1730" y="1460"/>
                </a:cubicBezTo>
                <a:cubicBezTo>
                  <a:pt x="1762" y="1474"/>
                  <a:pt x="1794" y="1489"/>
                  <a:pt x="1826" y="1501"/>
                </a:cubicBezTo>
                <a:cubicBezTo>
                  <a:pt x="1920" y="1535"/>
                  <a:pt x="1824" y="1501"/>
                  <a:pt x="1920" y="1535"/>
                </a:cubicBezTo>
                <a:cubicBezTo>
                  <a:pt x="1920" y="1601"/>
                  <a:pt x="1920" y="1819"/>
                  <a:pt x="1920" y="1921"/>
                </a:cubicBezTo>
                <a:cubicBezTo>
                  <a:pt x="1737" y="1921"/>
                  <a:pt x="164" y="1920"/>
                  <a:pt x="0" y="1920"/>
                </a:cubicBezTo>
                <a:cubicBezTo>
                  <a:pt x="0" y="1802"/>
                  <a:pt x="0" y="2111"/>
                  <a:pt x="0" y="0"/>
                </a:cubicBezTo>
                <a:close/>
              </a:path>
            </a:pathLst>
          </a:custGeom>
          <a:solidFill>
            <a:srgbClr val="ffcc99"/>
          </a:solidFill>
          <a:ln cap="rnd" w="32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6095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8640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.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6095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39876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533412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2a/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400860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1480" y="27892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SUMMARY TABLE</a:t>
            </a:r>
            <a:br>
              <a:rPr sz="2600"/>
            </a:br>
            <a:r>
              <a:rPr b="1" lang="it-IT" sz="26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1219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6095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me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MEM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 rot="16200000">
            <a:off x="3886200" y="1676160"/>
            <a:ext cx="480060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19720" y="297180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4419360" y="2209680"/>
            <a:ext cx="3809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95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3733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52722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41936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822816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4419720" y="2209680"/>
            <a:ext cx="144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16765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YP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d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9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2.500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250.000 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54100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205740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205740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77320" y="5867280"/>
            <a:ext cx="30456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867280"/>
            <a:ext cx="304920" cy="3049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RECTANGULAR FISH F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OT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1:31:05Z</dcterms:created>
  <dc:creator>Navispelog - 4° Reparto Fari</dc:creator>
  <dc:description/>
  <dc:language>en-US</dc:language>
  <cp:lastModifiedBy>CIL</cp:lastModifiedBy>
  <dcterms:modified xsi:type="dcterms:W3CDTF">2006-10-18T14:25:40Z</dcterms:modified>
  <cp:revision>49</cp:revision>
  <dc:subject/>
  <dc:title>MARICOLTURE</dc:title>
</cp:coreProperties>
</file>