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C87-487B-4A09-9A4C-16438FD2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4B5-63C1-49E7-B56E-CE4019E0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66A-85F7-401A-9DB5-477F3C14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501-FF9D-458E-8C27-7E633FC4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7E4-2AE0-4293-A88C-BB102CA2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E87-DB9D-4B76-A00E-BE484D26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329-E0CC-4F94-9130-2E5D3377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A58-15E9-49D6-8DCE-5B9496E8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2A1-64ED-4989-8DD5-A095547B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60A-158E-457A-8330-F8EFC80A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B21-0D4E-4981-807B-24BCF720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6A0-5156-443F-A15C-F1043F5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268A-0785-4B29-BD81-5BCB60963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2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5589720"/>
            <a:ext cx="1439640" cy="431640"/>
          </a:xfrm>
          <a:prstGeom prst="wedgeRectCallout">
            <a:avLst>
              <a:gd name="adj1" fmla="val 31699"/>
              <a:gd name="adj2" fmla="val -30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 “edge” (new lighthouse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805360"/>
            <a:ext cx="1295640" cy="432000"/>
          </a:xfrm>
          <a:prstGeom prst="wedgeRectCallout">
            <a:avLst>
              <a:gd name="adj1" fmla="val -141546"/>
              <a:gd name="adj2" fmla="val -100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I (existing lighthou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7:09:02Z</dcterms:created>
  <dc:creator>alialios</dc:creator>
  <dc:description/>
  <dc:language>en-US</dc:language>
  <cp:lastModifiedBy>alialios</cp:lastModifiedBy>
  <dcterms:modified xsi:type="dcterms:W3CDTF">2007-03-26T07:09:58Z</dcterms:modified>
  <cp:revision>2</cp:revision>
  <dc:subject/>
  <dc:title>Slide 1</dc:title>
</cp:coreProperties>
</file>