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39B-67F3-4FA5-B445-DEBDAF4B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062-C429-4AC6-B20B-42F807EF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1B4-77AC-446D-9681-F8AA4419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E5B-A820-4934-8FF8-ACD73A3F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82991-F9BD-4C50-88DC-8BCEC7A1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9E903-5FD1-42AB-BA49-BBEA5871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B675A-48C9-4EFB-9ADC-E041540E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FB77A-3EAC-411E-88EB-0C6AB774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6B0C9-874A-4F14-9EF8-F8A8C9B0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DC7C7-21F4-49BA-B85C-6C1B6E77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921DB-B934-4509-A16E-77851D0D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AC4-BA7D-4BEC-95D6-5CE9FCC5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F3605-93B0-4D6C-B860-63AAC7AB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6ED2A-E7AD-4596-BEDD-BFDE2E1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16C47-3A80-45D2-BA86-2DCC260E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9B339-1270-4F50-8619-22482435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B40A6-5492-40E6-AABE-870C457F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630-4926-4238-9CF2-0ADD219D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D3C-D1D4-4C33-A819-437B64CE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4D7-4D0F-4262-A8A6-B310FDD2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D7B-E89C-47FD-86DC-1FECD8C5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384-A265-42F4-AF0F-8C206775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FD4-4E90-4CF3-93A6-B34CC16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217-F3DB-4B9D-ABF8-D539A37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11A1-B06A-402B-84DA-86350E476E9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284A-A2FA-4806-9C34-50B68B664F56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856560" y="4046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-NAV10/7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6-17T08:08:33Z</dcterms:modified>
  <cp:revision>22</cp:revision>
  <dc:subject/>
  <dc:title>Slide 1</dc:title>
</cp:coreProperties>
</file>