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506D-4391-409B-A5F3-2498419F1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9F95-F2D8-4D69-8954-499F60B47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2753-8FB7-4243-8349-A2B877C0B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2E559-0702-4690-81F1-937C1681F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F9EAE-770D-4415-8131-4CF81A214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95F3E-E13B-422D-86A6-BDCAE2A24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E2E0C3-1924-4212-80FF-54C95E7A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4BBAD4-FC6E-4EAF-954E-3A1200A7C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087FC5B-7EF6-44A8-9CAF-A432AA3F4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46C60B-4C0C-4818-B12A-1B6EABBB1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8FFFF8-059A-4FB5-8DA0-DB38731BF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96D7-6BD1-49C0-8325-7CCB86C81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F40631-1EF8-4748-89ED-60DB47E1B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636D7B-6360-4262-8E60-AAAC6220D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8AD9FC-B699-46EA-B22B-ACC70429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BC4423-1830-4A34-8EDF-C99F97CE4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8943A6-AE14-4F81-8BB9-85D924DE7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F51F-E191-4546-BBA8-C0A5ADD86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5B19-C7F5-42BD-BD84-5D8125123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28F7-FECB-421A-9086-224A9AD7B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19F7-56F9-4524-880D-11179202E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CCF8-F5CE-44EC-B1CD-57445362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C8C8-3466-43EF-BA03-95C4F80E4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BC03-802B-46E3-B4A7-9C94D60F5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361C5-6419-4B71-8C77-76FE5BE1504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13C23-2163-4A18-9DF0-08FDBC93E1A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6643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6 - Time budget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nd-to-end timing consider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leness - when is data too old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ransmission queu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ltiple recep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7 - Reliability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SS redundancy issues, etc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VDL Manag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400040" y="1905120"/>
            <a:ext cx="63453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4 - FATDMA planning and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FATDMA configuration setup of AIS shoresta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lgorithm to calculate the FATDMA geographical gridscheme on a global ba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7 - Channel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Channel Management for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the use of DSC capabilities with regard to the A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lculations with regard to DSC channel management comman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Channel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5 - Assigned mode operation of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Assigned Mode operation by ans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8 - General loading management by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pacity balance of the AIS VDL by AIS Service(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rvices operating on the VDL simultaneous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mplementaton, installation and maintena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57200" y="2413080"/>
            <a:ext cx="82296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03200"/>
            <a:ext cx="8229600" cy="27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3 - Recommendation regarding efficient operation and maintenanc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4969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maintenan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ot specific for the AIS service?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2 - Installation guidelines for AIS shore st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guidance for installation of an AIS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raction between AIS related services and other (maritime mobile) services operating in the same shores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dressing coverage issu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ght be covered by referencing to another pap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omething might come from the guideli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-12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286080" y="1905120"/>
            <a:ext cx="2571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unctional components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1728720" y="1905120"/>
            <a:ext cx="56880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3 - Interaction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action between the components of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layerd structure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The layers of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0 - Functional description of the P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Repeater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hysical AIS Shore Station Lay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secondary syncronisation by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9 - Functional description of the LS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case of the Logical AIS Shor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on retransmission using VDM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lines: retransmis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1 - Functional description of the ASM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se cases of the AIS service manag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storag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6 - DGNSS broadcast from an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 for DGNSS correction broadcast from an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terfacing the DGNSS correction service to the AIS Base S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uidelines: DGNS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s revi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rious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Genera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2921040"/>
            <a:ext cx="8229600" cy="20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ervice Model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1247760" y="1905120"/>
            <a:ext cx="66499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1 - AIS Service Generic Use Cases (Basic AIS services)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unctional interface between the shorebased applications and the AIS Service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Basic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Other material: e-NAV1-09-07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Divide into ?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Ex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These are the services provided to higher layers, for which interfaces are required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Internal AIS service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covers internal management aspects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76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Failurre handeling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76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Tahoma"/>
              </a:rPr>
              <a:t>Stefan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-68040"/>
            <a:ext cx="82296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4 - Data and data storage / min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1621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ata mining outside the AIS Servi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5 - Interfacing model of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IS Data Transfer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uidelines: Data transfe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mploying TCP/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P protocol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eprocessing and interfacing to the AIS Net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essaging sentences / structu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'IALA sentences'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Tahoma"/>
              </a:rPr>
              <a:t>IEC sentences (Base station sentenc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120"/>
            <a:ext cx="82296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nex 8 - Test model for the AIS servi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st strateg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22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Design condira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457200" y="2516040"/>
            <a:ext cx="822960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9T15:27:09Z</dcterms:created>
  <dc:creator>Jens Kristian Jensen</dc:creator>
  <dc:description/>
  <dc:language>en-US</dc:language>
  <cp:lastModifiedBy>Jens Kristian Jensen</cp:lastModifiedBy>
  <dcterms:modified xsi:type="dcterms:W3CDTF">2007-01-19T15:27:15Z</dcterms:modified>
  <cp:revision>1</cp:revision>
  <dc:subject/>
  <dc:title>A-124</dc:title>
</cp:coreProperties>
</file>