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23FD-EB10-40B1-9DE0-3548448D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16F2-9DDF-42D1-9411-5F17CE47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6CE1-8673-4758-9A72-6BBD882F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73FF-B262-4B9D-99DA-8E8736B4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32530-3CBA-4B57-BBEB-7D46CCC09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3189F-F796-4BB2-A8A4-219E5323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DA817-CD43-4919-AD6E-204619DE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A869C-CC12-4813-8095-6E66B342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B035B6-C27C-458E-A662-069E752C3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10A73-AFCB-4C69-BC9A-68E64274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178F76-1597-4DB0-98B3-1DADA811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0F7A-53E8-47EA-B714-300C190E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AF8F6-B485-4FB4-A344-BFDADE4A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67D78-ABA0-45A2-AB2F-F7623D14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4951B-EBF9-4DB1-BC70-DD2C866F9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C7F5C-0F3D-4566-98DB-4567E500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A63F4A-9DD9-4335-97D8-7DA4FA5E6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B50F-3A32-4710-B6F5-A7F764B1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FD8-5B81-4B2B-A143-E92C4992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E3D36-890E-4012-87FE-6B4F1E75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555F-F90E-4F80-9A62-DC03F84F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6D65-5C42-4817-9C18-2B9660B1F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4D82-CB59-4782-84E0-128C8175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7A3-B4E5-412E-9A0F-112DEF27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39F4-C5BA-46AE-9F4C-65CE7011D2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9775-5934-40AD-9853-0F9043859F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64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-12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6 - Time budget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-to-end timing consider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leness - when is data too ol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mission queu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rece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7 - Reliability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SS redundancy issues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DL Manage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00040" y="1905120"/>
            <a:ext cx="634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4 - FATDMA planning and operation of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FATDMA configuration setup of AIS shores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gorithm to calculate the FATDMA geographical gridscheme on a global ba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7 - Channel Management by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Channel Management for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the use of DSC capabilities with regard to the A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culations with regard to DSC channel management comm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Channel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5 - Assigned mode operation of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Assigned Mode operation by ans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8 - General loading management by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acity balance of the AIS VDL by AIS Service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ices operating on the VDL simultaneous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plementaton, installation and mainten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2413080"/>
            <a:ext cx="82296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0320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3 - Recommendation regarding efficient operation and maintenance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maintenance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specific for the AIS service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2 - Installation guidelines for AIS shore st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 guidance for installation of an AIS shores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ion between AIS related services and other (maritime mobile) services operating in the same shores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ressing coverage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ght be covered by referencing to another pap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thing might come from the guide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-12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86080" y="190512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unctional components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28720" y="1905120"/>
            <a:ext cx="5688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3 - Interaction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action between the components of the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layerd structure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The layers of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0 - Functional description of the P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Repea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al AIS Shore Station L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secondary syncronisation by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9 - Functional description of the L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case of the Logical AIS Shore s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on retransmission using VDM from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lines: retrans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1 - Functional description of the AS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cases of the AIS service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6 - DGNSS broadcast from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DGNSS correction broadcast from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facing the DGNSS correction service to the AIS Base S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DGN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s rev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ious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2921040"/>
            <a:ext cx="822960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rvice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47760" y="1905120"/>
            <a:ext cx="664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 - AIS Service Generic Use Cases (Basic AIS service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Functional interface between the shorebased applications and the AIS Servic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Basic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Other material: e-NAV1-09-07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Divide into ?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External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These are the services provided to higher layers, for which interfaces are required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Internal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covers internal management aspect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Failurre handeling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Stefa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4 - Data and data storage / mining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621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mining outside the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5 - Interfacing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S Data Transfer Net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idelines: Data trans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ploying TCP/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P protocol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rocessing and interfacing to the AIS Net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saging sentences / struc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'IALA sentences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IEC sentences (Base station sentenc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8 - Test model for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ign condir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2516040"/>
            <a:ext cx="82296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5:27:09Z</dcterms:created>
  <dc:creator>Jens Kristian Jensen</dc:creator>
  <dc:description/>
  <dc:language>en-US</dc:language>
  <cp:lastModifiedBy>Jens Kristian Jensen</cp:lastModifiedBy>
  <dcterms:modified xsi:type="dcterms:W3CDTF">2007-01-19T15:27:15Z</dcterms:modified>
  <cp:revision>1</cp:revision>
  <dc:subject/>
  <dc:title>A-124</dc:title>
</cp:coreProperties>
</file>