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3C5-63BA-4088-9A97-F6AA953C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55C-B285-477A-B426-0C15F81C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88E-2F60-43E2-92A2-D114600A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F1B-3898-47EA-AA40-DB4399F5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D2378-9C8E-457D-8741-C017A6A9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DA348-D585-4CD8-8DD6-DC2A2798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B88D9-7E9B-43C1-8292-5ECFDC78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4D71E-5497-4EF0-B6C3-87971E32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86D82-D510-4A7F-8449-3EB33EF5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804B1-8959-40BD-80B9-F66844AA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166F2-F87F-47A3-9F2B-CFD50EF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EA2-47C4-4924-A7D5-91497B73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62510-A5FF-49AD-BEF4-438957B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FC9EA-6772-41D3-A8F8-1324871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D37CC-6F9E-4662-AF7C-695134A0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71EC8-4012-4052-BA8A-EF6B30A3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7D2C9-2228-4A72-A198-DAD315E6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27B-A482-4EA4-93B7-9013C27E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E7B-DD5B-4734-AF11-31AA75AB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983-3907-46B4-A5D7-D5F43A76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E73-D22D-4894-B848-4D2BD029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93C-D4CB-4711-B52D-B1D6A3D9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7DB-D54C-419B-A0CC-E43F89B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22C-EF1C-433E-B02F-FD977387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65FD-1B1C-4296-9A82-CB75A49A0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B201-E65E-49B5-AE4E-EEBA772D3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6 - Time budget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to-end timing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eness - when is data too o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que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rece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7 - Reliability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SS redundancy issu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DL 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0040" y="1905120"/>
            <a:ext cx="63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4 - FATDMA planning and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FATDMA configuration setup of AIS shore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hm to calculate the FATDMA geographical gridscheme on a global b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7 - Channel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Channel Management for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the use of DSC capabilities with regard to the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ions with regard to DSC channel management com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Channel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5 - Assigned mode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Assigned Mode operation by ans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8 - General loading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y balance of the AIS VDL by AIS Service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operating on the VDL simultaneous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on, installation and mainte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413080"/>
            <a:ext cx="8229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032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3 - Recommendation regarding efficient operation and maintenanc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maintenan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pecific for the AIS service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2 - Installation guidelines for AIS shore s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guidance for installation of an AIS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AIS related services and other (maritime mobile) services operating in the same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ing coverage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ht be covered by referencing to another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 might come from the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86080" y="190512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al components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28720" y="190512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3 - Interaction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 between the components of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layerd structur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The layers of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0 - Functional description of the P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Rep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IS Shore Station 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secondary syncronisation by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9 - Functional description of the L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case of the Logical AIS Shor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on retransmission using VDM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: re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1 - Functional description of the A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ases of the AIS servi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6 - DGNSS broadcast from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DGNSS correction broadcast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acing the DGNSS correction service to the AIS Bas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DGN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921040"/>
            <a:ext cx="82296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vice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47760" y="1905120"/>
            <a:ext cx="66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 - AIS Service Generic Use Cases (Basic AIS service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unctional interface between the shorebased applications and the AIS Serv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asic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ther material: e-NAV1-09-0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ivide into 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se are the services provided to higher layers, for which interfaces are required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overs internal management aspect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ailurre handelin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tef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4 - Data and data storage / min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62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mining outside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5 - Interfac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S Data Transfer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s: Data trans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ing TCP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 protocol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rocessing and interfacing to the AIS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saging sentences /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IALA sentences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EC sentences (Base station sent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8 - Test model for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ign condi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516040"/>
            <a:ext cx="8229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5:27:09Z</dcterms:created>
  <dc:creator>Jens Kristian Jensen</dc:creator>
  <dc:description/>
  <dc:language>en-US</dc:language>
  <cp:lastModifiedBy>Jens Kristian Jensen</cp:lastModifiedBy>
  <dcterms:modified xsi:type="dcterms:W3CDTF">2007-01-19T15:27:15Z</dcterms:modified>
  <cp:revision>1</cp:revision>
  <dc:subject/>
  <dc:title>A-124</dc:title>
</cp:coreProperties>
</file>