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A79-909B-41BB-9129-1F5F3B30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0905-35AF-47B0-A156-C67EE62B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74A0-6261-49DB-8A72-0C121C92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F001-AFCE-4C81-AC3D-E6D503E1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F567-64CC-40BD-B722-E0D343EC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DC24-8BB1-424D-8D2B-A79A12AD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4086-4D57-4C69-BFC7-A4F34B37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3BDE-1353-4C5E-B5FB-B06FBA98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7DF0-FA3B-4619-A27F-46BC55FA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6A09-8574-472C-A84A-0546C43D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2522-AA9F-4514-9EA6-5D300051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6507-CC98-4B4D-B0CE-3B8D47BB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254D-C31A-4669-A7FD-6B9CC9F227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dnesday 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pt. 16:00 to 17:00 h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sday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pt. 9:00 to 10:30 h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 Alan Stewart N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-Chair Bill Kautz US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re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5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ptember, 20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ssional WG4/1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em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CM Arlington, Virginia, U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6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rch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ssional WG4/2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une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7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ptember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7/1 TOR for WG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7/3 WRC07 re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13/15 IWRAP SG12 Liaison n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LA World-Wide Radio Communication Plan (IALA WWRC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ill we work towards drafting the IALA WWRC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future Maritime Radio Communic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current Maritime Radio Communic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will we kee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will become redunda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related bodies and pro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reference doc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ALA FTP site for posting doc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 reflec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eg timescales for input do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ork on IALA WWR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liaison note respo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any proposed liaison n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6:33:14Z</dcterms:created>
  <dc:creator>LiamC</dc:creator>
  <dc:description/>
  <dc:language>en-US</dc:language>
  <cp:lastModifiedBy>LiamC</cp:lastModifiedBy>
  <dcterms:modified xsi:type="dcterms:W3CDTF">2008-09-18T10:51:15Z</dcterms:modified>
  <cp:revision>27</cp:revision>
  <dc:subject/>
  <dc:title>PowerPoint Presentation</dc:title>
</cp:coreProperties>
</file>