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17DE15-93CF-4174-A445-682686BC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5444C3-AF3B-467E-96F4-07CA23F3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A40D48-EC5C-4860-95D2-98CA467F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DD6822-B438-4EFA-8BA6-F4A5B73A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B1AF5C-C844-4ED9-B228-FFFFCAA5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7A6AE2-021F-4161-9885-D5AF85CA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31F1D5-B291-4CEF-A0D6-CC89FBA7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E02CBE-BD69-450C-A17C-2C32AB3D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C7CC6B-547A-4441-865F-E97C5755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69B-97C9-473A-A701-851FE7D2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6B0-2C59-44AF-851E-FA08EBE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415-52A3-428C-9C6D-6DDFB390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E7C-9331-4161-9FB7-2E32645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659-E4A6-433F-8BEC-0432C473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F05-0202-4C29-9FF3-CABADD0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9DA-AE2B-40B7-BE91-BE52DD6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D83-A8B4-4D4D-B3CF-99B3BF07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9E9-0312-451B-83AF-8B584F95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8F4-E285-4BC1-A4E9-2D030F4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384-6FD6-4C99-BFB1-3132BC7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CC8-0D3B-4A17-9D11-E6937F7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174-DC11-491A-878A-AE9C66FF30C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the development of Recommendations and Guidelines on e-Navigation Portrayal (output/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d in WG1 output to IMO; Recommend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LA exceeding re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and Portrayal “on the brid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LA Members / Sister Organization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-Navigation succeed withou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 new participants, 1 ob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 Output papers includ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ft Guideline on Procedures for the Management of the IALA Domains under the IHO Registr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ANM, EEP, VTS on draft Product Specifications under S-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 other papers dealing with the IHO S-100 GI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 Liaison Notes to ITU-R WP5B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aison Notes to IEC, IH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 draft Information Papers to IM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– a vision and its practical implementation -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proposed shipboard architecture– Jan-Hendrik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U/W, Testbed portal – Thomas Christensen (D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WA – Stephen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Participation in the IHO Registry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-100/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on e-NAV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(output/16) outlining the e-NAV Committee’s plan for its review of the IALA NAV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 on the proposed course content for a radionavigation module (e-NAV11/output/18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NAV58 INF paper (output/17) on Maritime Integrated P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PAP and other Committees on the Plan for AIS and VDE (output/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s to ITU-R WP5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roposed changes to Recommendations ITU-R M.824-3 and ITU-R M.1176  (output/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 for Future VHF Data Communications (output/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timing of submissions of changes to ITU-R M1371-4 (output/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ALA Guideline on Procedures for the Management of the IALA Domains under the IHO Registry (output/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Dra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line (output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HO on Applications to participate in the IHO Registry (output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Registry (output/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7031160" y="2743200"/>
          <a:ext cx="21128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1160" y="2743200"/>
                    <a:ext cx="2112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04-16T17:13:14Z</dcterms:modified>
  <cp:revision>114</cp:revision>
  <dc:subject/>
  <dc:title>PowerPoint Presentation</dc:title>
</cp:coreProperties>
</file>