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4D6-DA41-4489-9D38-C08096C9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29C-BEB8-47FB-B426-E0AF729B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0F2-6C41-4580-928B-436CDAB9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A2D-20C9-48EF-9986-7ED8AAA4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44C-C745-4EA3-9CAA-135329D6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593-EED3-4CAF-A9EC-D2D1837E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E52-305C-414F-8257-FCB7B6FC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EDB-9233-411E-8B9B-8FB16B95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66F-0E7E-4BEF-8DA5-66E60B3E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3BF-F382-49D7-B103-E260B43A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274-9376-489D-95DB-C46DE299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28E-BFDD-4CEF-BD3A-0B6D7094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2F40-77EE-4B6B-8D7B-F983EACD4D8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IALA Participation in IHO Regis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resentation to PAP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3 Ma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Arial"/>
                <a:ea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mmon Maritime Data Structure is a top-level requirement for e-navig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HO has established a GI Registry, governed by S-100 &amp; S-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MO NAV 57 agreed on IHO Registry as baseline for the collection, exchange, and distribution of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ALA Council 52 approved registration of IALA at IHO as a Submitting Organization &amp; domain own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ALA operational procedures in Guideline conform to IHO standard S-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Arial"/>
                <a:ea typeface="Arial"/>
              </a:rPr>
              <a:t>IHO Regi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197000" y="1357200"/>
            <a:ext cx="65898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Process in IA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S-100 flowchart"/>
          <p:cNvPicPr/>
          <p:nvPr/>
        </p:nvPicPr>
        <p:blipFill>
          <a:blip r:embed="rId1"/>
          <a:stretch/>
        </p:blipFill>
        <p:spPr>
          <a:xfrm>
            <a:off x="1714680" y="1285920"/>
            <a:ext cx="56433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Arial"/>
              </a:rPr>
              <a:t>IALA Organizational Char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Macintosh HD:Users:Mike:Documents:A_Work:IALA:Committees:e-NAV Committee:e-NAV11 Mar12:Report inputs:IALA Org chart.jpg"/>
          <p:cNvPicPr/>
          <p:nvPr/>
        </p:nvPicPr>
        <p:blipFill>
          <a:blip r:embed="rId1"/>
          <a:stretch/>
        </p:blipFill>
        <p:spPr>
          <a:xfrm>
            <a:off x="777960" y="1000080"/>
            <a:ext cx="75880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IALA ap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elds: AtoNs, VTS, AIS, Risk Analysis, WWR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VEF – Technical WG in VTS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oN Information – e-NAV lead, ANM &amp; EEP provide input (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S – applications to be ident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sk Analysis – IWRA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RN – applications to be identif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  <a:ea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IHO Registry is the baseline for CM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-100 gives a framework for data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accommodate IALA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gnificant impact on IALA,  but also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7:06:38Z</dcterms:created>
  <dc:creator>Nick Ward</dc:creator>
  <dc:description/>
  <dc:language>en-US</dc:language>
  <cp:lastModifiedBy>Nick Ward</cp:lastModifiedBy>
  <dcterms:modified xsi:type="dcterms:W3CDTF">2012-05-03T05:31:05Z</dcterms:modified>
  <cp:revision>5</cp:revision>
  <dc:subject/>
  <dc:title>IALA Participation in IHO Registry</dc:title>
</cp:coreProperties>
</file>